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A332-2CCA-48FF-B92D-0862C80FF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28DD-D22D-48AD-9631-0DC4239F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6B50-5603-4D93-9FC2-00A12BE22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5D9A-8797-4029-8003-58FFAB250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5F242-7E2A-4C65-B728-69EBA08BE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31990-4B89-45C9-BE21-1956DC9AE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DDAD0-6A7E-4B2A-86A7-D6841B6CA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B0A75-D551-48F6-89E3-F96E17869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748E8-06A3-44BD-9F9F-7B8AA5E3E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B0FC3-729F-418B-8A4D-39B50990A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5772D-75ED-404B-842D-45091342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7B11-ED7C-47B7-9E39-3C6392E25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94DED-6FA5-4F42-9FC4-3CDE15CE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2C0F7-EFA9-4B71-8C85-898703F3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83D09-0AFA-4BB6-8862-6CC47A80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781A7-3DAE-48FD-A0ED-F4BFBF797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AD6B3-A32B-441D-ADF9-36BCAA300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5B88-9C66-43F4-821A-0F6E1474E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12CF-9B2A-4D26-8013-F1D848285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4299-E339-41C4-8589-49D2913D1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9EA6-F2C0-43F3-9D06-FEE4BEAC4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B7F6-BD60-47B1-9472-D0E6D55B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2A28-AA47-49B4-95E3-554C9EA7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D312-0365-4CBB-9C4E-EA0F6D0A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81120"/>
            <a:ext cx="9142560" cy="5275440"/>
            <a:chOff x="0" y="1581120"/>
            <a:chExt cx="9142560" cy="5275440"/>
          </a:xfrm>
        </p:grpSpPr>
        <p:pic>
          <p:nvPicPr>
            <p:cNvPr id="1" name="Picture 3" descr=""/>
            <p:cNvPicPr/>
            <p:nvPr/>
          </p:nvPicPr>
          <p:blipFill>
            <a:blip r:embed="rId3"/>
            <a:srcRect l="0" t="0" r="27345" b="11443"/>
            <a:stretch/>
          </p:blipFill>
          <p:spPr>
            <a:xfrm>
              <a:off x="6311880" y="2259000"/>
              <a:ext cx="2830680" cy="45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Freeform 4"/>
            <p:cNvSpPr/>
            <p:nvPr/>
          </p:nvSpPr>
          <p:spPr>
            <a:xfrm>
              <a:off x="0" y="5591160"/>
              <a:ext cx="3983040" cy="311040"/>
            </a:xfrm>
            <a:custGeom>
              <a:avLst/>
              <a:gdLst/>
              <a:ahLst/>
              <a:rect l="l" t="t" r="r" b="b"/>
              <a:pathLst>
                <a:path w="2509" h="196">
                  <a:moveTo>
                    <a:pt x="5" y="93"/>
                  </a:moveTo>
                  <a:lnTo>
                    <a:pt x="39" y="61"/>
                  </a:lnTo>
                  <a:lnTo>
                    <a:pt x="71" y="43"/>
                  </a:lnTo>
                  <a:lnTo>
                    <a:pt x="104" y="28"/>
                  </a:lnTo>
                  <a:lnTo>
                    <a:pt x="144" y="18"/>
                  </a:lnTo>
                  <a:lnTo>
                    <a:pt x="182" y="13"/>
                  </a:lnTo>
                  <a:lnTo>
                    <a:pt x="227" y="10"/>
                  </a:lnTo>
                  <a:lnTo>
                    <a:pt x="281" y="13"/>
                  </a:lnTo>
                  <a:lnTo>
                    <a:pt x="321" y="22"/>
                  </a:lnTo>
                  <a:lnTo>
                    <a:pt x="357" y="34"/>
                  </a:lnTo>
                  <a:lnTo>
                    <a:pt x="408" y="60"/>
                  </a:lnTo>
                  <a:lnTo>
                    <a:pt x="440" y="85"/>
                  </a:lnTo>
                  <a:lnTo>
                    <a:pt x="474" y="111"/>
                  </a:lnTo>
                  <a:lnTo>
                    <a:pt x="509" y="129"/>
                  </a:lnTo>
                  <a:lnTo>
                    <a:pt x="561" y="142"/>
                  </a:lnTo>
                  <a:lnTo>
                    <a:pt x="626" y="148"/>
                  </a:lnTo>
                  <a:lnTo>
                    <a:pt x="677" y="145"/>
                  </a:lnTo>
                  <a:lnTo>
                    <a:pt x="728" y="135"/>
                  </a:lnTo>
                  <a:lnTo>
                    <a:pt x="770" y="117"/>
                  </a:lnTo>
                  <a:lnTo>
                    <a:pt x="806" y="93"/>
                  </a:lnTo>
                  <a:lnTo>
                    <a:pt x="860" y="57"/>
                  </a:lnTo>
                  <a:lnTo>
                    <a:pt x="899" y="36"/>
                  </a:lnTo>
                  <a:lnTo>
                    <a:pt x="950" y="13"/>
                  </a:lnTo>
                  <a:lnTo>
                    <a:pt x="998" y="4"/>
                  </a:lnTo>
                  <a:lnTo>
                    <a:pt x="1043" y="3"/>
                  </a:lnTo>
                  <a:lnTo>
                    <a:pt x="1119" y="6"/>
                  </a:lnTo>
                  <a:lnTo>
                    <a:pt x="1181" y="21"/>
                  </a:lnTo>
                  <a:lnTo>
                    <a:pt x="1214" y="39"/>
                  </a:lnTo>
                  <a:lnTo>
                    <a:pt x="1260" y="66"/>
                  </a:lnTo>
                  <a:lnTo>
                    <a:pt x="1308" y="102"/>
                  </a:lnTo>
                  <a:lnTo>
                    <a:pt x="1349" y="121"/>
                  </a:lnTo>
                  <a:lnTo>
                    <a:pt x="1403" y="133"/>
                  </a:lnTo>
                  <a:lnTo>
                    <a:pt x="1458" y="138"/>
                  </a:lnTo>
                  <a:lnTo>
                    <a:pt x="1514" y="133"/>
                  </a:lnTo>
                  <a:lnTo>
                    <a:pt x="1557" y="123"/>
                  </a:lnTo>
                  <a:lnTo>
                    <a:pt x="1593" y="111"/>
                  </a:lnTo>
                  <a:lnTo>
                    <a:pt x="1635" y="84"/>
                  </a:lnTo>
                  <a:lnTo>
                    <a:pt x="1668" y="61"/>
                  </a:lnTo>
                  <a:lnTo>
                    <a:pt x="1704" y="39"/>
                  </a:lnTo>
                  <a:lnTo>
                    <a:pt x="1754" y="18"/>
                  </a:lnTo>
                  <a:lnTo>
                    <a:pt x="1794" y="6"/>
                  </a:lnTo>
                  <a:lnTo>
                    <a:pt x="1844" y="1"/>
                  </a:lnTo>
                  <a:lnTo>
                    <a:pt x="1907" y="0"/>
                  </a:lnTo>
                  <a:lnTo>
                    <a:pt x="1958" y="4"/>
                  </a:lnTo>
                  <a:lnTo>
                    <a:pt x="2003" y="18"/>
                  </a:lnTo>
                  <a:lnTo>
                    <a:pt x="2039" y="33"/>
                  </a:lnTo>
                  <a:lnTo>
                    <a:pt x="2073" y="54"/>
                  </a:lnTo>
                  <a:lnTo>
                    <a:pt x="2118" y="88"/>
                  </a:lnTo>
                  <a:lnTo>
                    <a:pt x="2153" y="109"/>
                  </a:lnTo>
                  <a:lnTo>
                    <a:pt x="2192" y="124"/>
                  </a:lnTo>
                  <a:lnTo>
                    <a:pt x="2244" y="135"/>
                  </a:lnTo>
                  <a:lnTo>
                    <a:pt x="2303" y="138"/>
                  </a:lnTo>
                  <a:lnTo>
                    <a:pt x="2355" y="129"/>
                  </a:lnTo>
                  <a:lnTo>
                    <a:pt x="2412" y="106"/>
                  </a:lnTo>
                  <a:lnTo>
                    <a:pt x="2439" y="87"/>
                  </a:lnTo>
                  <a:lnTo>
                    <a:pt x="2463" y="66"/>
                  </a:lnTo>
                  <a:lnTo>
                    <a:pt x="2475" y="61"/>
                  </a:lnTo>
                  <a:lnTo>
                    <a:pt x="2489" y="61"/>
                  </a:lnTo>
                  <a:lnTo>
                    <a:pt x="2499" y="66"/>
                  </a:lnTo>
                  <a:lnTo>
                    <a:pt x="2507" y="76"/>
                  </a:lnTo>
                  <a:lnTo>
                    <a:pt x="2508" y="85"/>
                  </a:lnTo>
                  <a:lnTo>
                    <a:pt x="2508" y="96"/>
                  </a:lnTo>
                  <a:lnTo>
                    <a:pt x="2504" y="106"/>
                  </a:lnTo>
                  <a:lnTo>
                    <a:pt x="2490" y="118"/>
                  </a:lnTo>
                  <a:lnTo>
                    <a:pt x="2463" y="139"/>
                  </a:lnTo>
                  <a:lnTo>
                    <a:pt x="2429" y="160"/>
                  </a:lnTo>
                  <a:lnTo>
                    <a:pt x="2399" y="172"/>
                  </a:lnTo>
                  <a:lnTo>
                    <a:pt x="2352" y="183"/>
                  </a:lnTo>
                  <a:lnTo>
                    <a:pt x="2298" y="186"/>
                  </a:lnTo>
                  <a:lnTo>
                    <a:pt x="2238" y="184"/>
                  </a:lnTo>
                  <a:lnTo>
                    <a:pt x="2192" y="180"/>
                  </a:lnTo>
                  <a:lnTo>
                    <a:pt x="2156" y="172"/>
                  </a:lnTo>
                  <a:lnTo>
                    <a:pt x="2114" y="156"/>
                  </a:lnTo>
                  <a:lnTo>
                    <a:pt x="2076" y="133"/>
                  </a:lnTo>
                  <a:lnTo>
                    <a:pt x="2049" y="112"/>
                  </a:lnTo>
                  <a:lnTo>
                    <a:pt x="2018" y="87"/>
                  </a:lnTo>
                  <a:lnTo>
                    <a:pt x="1977" y="67"/>
                  </a:lnTo>
                  <a:lnTo>
                    <a:pt x="1934" y="55"/>
                  </a:lnTo>
                  <a:lnTo>
                    <a:pt x="1886" y="49"/>
                  </a:lnTo>
                  <a:lnTo>
                    <a:pt x="1836" y="49"/>
                  </a:lnTo>
                  <a:lnTo>
                    <a:pt x="1776" y="64"/>
                  </a:lnTo>
                  <a:lnTo>
                    <a:pt x="1743" y="79"/>
                  </a:lnTo>
                  <a:lnTo>
                    <a:pt x="1707" y="99"/>
                  </a:lnTo>
                  <a:lnTo>
                    <a:pt x="1677" y="118"/>
                  </a:lnTo>
                  <a:lnTo>
                    <a:pt x="1626" y="147"/>
                  </a:lnTo>
                  <a:lnTo>
                    <a:pt x="1586" y="165"/>
                  </a:lnTo>
                  <a:lnTo>
                    <a:pt x="1535" y="180"/>
                  </a:lnTo>
                  <a:lnTo>
                    <a:pt x="1475" y="186"/>
                  </a:lnTo>
                  <a:lnTo>
                    <a:pt x="1437" y="186"/>
                  </a:lnTo>
                  <a:lnTo>
                    <a:pt x="1377" y="180"/>
                  </a:lnTo>
                  <a:lnTo>
                    <a:pt x="1322" y="165"/>
                  </a:lnTo>
                  <a:lnTo>
                    <a:pt x="1269" y="136"/>
                  </a:lnTo>
                  <a:lnTo>
                    <a:pt x="1230" y="109"/>
                  </a:lnTo>
                  <a:lnTo>
                    <a:pt x="1197" y="84"/>
                  </a:lnTo>
                  <a:lnTo>
                    <a:pt x="1163" y="67"/>
                  </a:lnTo>
                  <a:lnTo>
                    <a:pt x="1128" y="55"/>
                  </a:lnTo>
                  <a:lnTo>
                    <a:pt x="1071" y="48"/>
                  </a:lnTo>
                  <a:lnTo>
                    <a:pt x="1020" y="49"/>
                  </a:lnTo>
                  <a:lnTo>
                    <a:pt x="974" y="57"/>
                  </a:lnTo>
                  <a:lnTo>
                    <a:pt x="914" y="78"/>
                  </a:lnTo>
                  <a:lnTo>
                    <a:pt x="879" y="103"/>
                  </a:lnTo>
                  <a:lnTo>
                    <a:pt x="831" y="135"/>
                  </a:lnTo>
                  <a:lnTo>
                    <a:pt x="777" y="166"/>
                  </a:lnTo>
                  <a:lnTo>
                    <a:pt x="713" y="187"/>
                  </a:lnTo>
                  <a:lnTo>
                    <a:pt x="659" y="193"/>
                  </a:lnTo>
                  <a:lnTo>
                    <a:pt x="600" y="195"/>
                  </a:lnTo>
                  <a:lnTo>
                    <a:pt x="543" y="189"/>
                  </a:lnTo>
                  <a:lnTo>
                    <a:pt x="494" y="175"/>
                  </a:lnTo>
                  <a:lnTo>
                    <a:pt x="450" y="154"/>
                  </a:lnTo>
                  <a:lnTo>
                    <a:pt x="408" y="123"/>
                  </a:lnTo>
                  <a:lnTo>
                    <a:pt x="377" y="99"/>
                  </a:lnTo>
                  <a:lnTo>
                    <a:pt x="338" y="79"/>
                  </a:lnTo>
                  <a:lnTo>
                    <a:pt x="291" y="64"/>
                  </a:lnTo>
                  <a:lnTo>
                    <a:pt x="251" y="60"/>
                  </a:lnTo>
                  <a:lnTo>
                    <a:pt x="191" y="58"/>
                  </a:lnTo>
                  <a:lnTo>
                    <a:pt x="144" y="67"/>
                  </a:lnTo>
                  <a:lnTo>
                    <a:pt x="96" y="82"/>
                  </a:lnTo>
                  <a:lnTo>
                    <a:pt x="56" y="108"/>
                  </a:lnTo>
                  <a:lnTo>
                    <a:pt x="0" y="157"/>
                  </a:lnTo>
                  <a:lnTo>
                    <a:pt x="5" y="93"/>
                  </a:lnTo>
                </a:path>
              </a:pathLst>
            </a:custGeom>
            <a:solidFill>
              <a:srgbClr val="c3b5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1581120"/>
              <a:ext cx="439092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C1B4E-6C88-4DA1-A213-B92D5C820B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2259000"/>
            <a:ext cx="9142560" cy="4597560"/>
            <a:chOff x="0" y="2259000"/>
            <a:chExt cx="9142560" cy="4597560"/>
          </a:xfrm>
        </p:grpSpPr>
        <p:pic>
          <p:nvPicPr>
            <p:cNvPr id="46" name="Picture 3" descr=""/>
            <p:cNvPicPr/>
            <p:nvPr/>
          </p:nvPicPr>
          <p:blipFill>
            <a:blip r:embed="rId3"/>
            <a:srcRect l="0" t="0" r="27345" b="11443"/>
            <a:stretch/>
          </p:blipFill>
          <p:spPr>
            <a:xfrm>
              <a:off x="6311880" y="2259000"/>
              <a:ext cx="2830680" cy="45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Freeform 4"/>
            <p:cNvSpPr/>
            <p:nvPr/>
          </p:nvSpPr>
          <p:spPr>
            <a:xfrm>
              <a:off x="0" y="5362560"/>
              <a:ext cx="3983040" cy="311040"/>
            </a:xfrm>
            <a:custGeom>
              <a:avLst/>
              <a:gdLst/>
              <a:ahLst/>
              <a:rect l="l" t="t" r="r" b="b"/>
              <a:pathLst>
                <a:path w="2509" h="196">
                  <a:moveTo>
                    <a:pt x="5" y="93"/>
                  </a:moveTo>
                  <a:lnTo>
                    <a:pt x="39" y="61"/>
                  </a:lnTo>
                  <a:lnTo>
                    <a:pt x="71" y="43"/>
                  </a:lnTo>
                  <a:lnTo>
                    <a:pt x="104" y="28"/>
                  </a:lnTo>
                  <a:lnTo>
                    <a:pt x="144" y="18"/>
                  </a:lnTo>
                  <a:lnTo>
                    <a:pt x="182" y="13"/>
                  </a:lnTo>
                  <a:lnTo>
                    <a:pt x="227" y="10"/>
                  </a:lnTo>
                  <a:lnTo>
                    <a:pt x="281" y="13"/>
                  </a:lnTo>
                  <a:lnTo>
                    <a:pt x="321" y="22"/>
                  </a:lnTo>
                  <a:lnTo>
                    <a:pt x="357" y="34"/>
                  </a:lnTo>
                  <a:lnTo>
                    <a:pt x="408" y="60"/>
                  </a:lnTo>
                  <a:lnTo>
                    <a:pt x="440" y="85"/>
                  </a:lnTo>
                  <a:lnTo>
                    <a:pt x="474" y="111"/>
                  </a:lnTo>
                  <a:lnTo>
                    <a:pt x="509" y="129"/>
                  </a:lnTo>
                  <a:lnTo>
                    <a:pt x="561" y="142"/>
                  </a:lnTo>
                  <a:lnTo>
                    <a:pt x="626" y="148"/>
                  </a:lnTo>
                  <a:lnTo>
                    <a:pt x="677" y="145"/>
                  </a:lnTo>
                  <a:lnTo>
                    <a:pt x="728" y="135"/>
                  </a:lnTo>
                  <a:lnTo>
                    <a:pt x="770" y="117"/>
                  </a:lnTo>
                  <a:lnTo>
                    <a:pt x="806" y="93"/>
                  </a:lnTo>
                  <a:lnTo>
                    <a:pt x="860" y="57"/>
                  </a:lnTo>
                  <a:lnTo>
                    <a:pt x="899" y="36"/>
                  </a:lnTo>
                  <a:lnTo>
                    <a:pt x="950" y="13"/>
                  </a:lnTo>
                  <a:lnTo>
                    <a:pt x="998" y="4"/>
                  </a:lnTo>
                  <a:lnTo>
                    <a:pt x="1043" y="3"/>
                  </a:lnTo>
                  <a:lnTo>
                    <a:pt x="1119" y="6"/>
                  </a:lnTo>
                  <a:lnTo>
                    <a:pt x="1181" y="21"/>
                  </a:lnTo>
                  <a:lnTo>
                    <a:pt x="1214" y="39"/>
                  </a:lnTo>
                  <a:lnTo>
                    <a:pt x="1260" y="66"/>
                  </a:lnTo>
                  <a:lnTo>
                    <a:pt x="1308" y="102"/>
                  </a:lnTo>
                  <a:lnTo>
                    <a:pt x="1349" y="121"/>
                  </a:lnTo>
                  <a:lnTo>
                    <a:pt x="1403" y="133"/>
                  </a:lnTo>
                  <a:lnTo>
                    <a:pt x="1458" y="138"/>
                  </a:lnTo>
                  <a:lnTo>
                    <a:pt x="1514" y="133"/>
                  </a:lnTo>
                  <a:lnTo>
                    <a:pt x="1557" y="123"/>
                  </a:lnTo>
                  <a:lnTo>
                    <a:pt x="1593" y="111"/>
                  </a:lnTo>
                  <a:lnTo>
                    <a:pt x="1635" y="84"/>
                  </a:lnTo>
                  <a:lnTo>
                    <a:pt x="1668" y="61"/>
                  </a:lnTo>
                  <a:lnTo>
                    <a:pt x="1704" y="39"/>
                  </a:lnTo>
                  <a:lnTo>
                    <a:pt x="1754" y="18"/>
                  </a:lnTo>
                  <a:lnTo>
                    <a:pt x="1794" y="6"/>
                  </a:lnTo>
                  <a:lnTo>
                    <a:pt x="1844" y="1"/>
                  </a:lnTo>
                  <a:lnTo>
                    <a:pt x="1907" y="0"/>
                  </a:lnTo>
                  <a:lnTo>
                    <a:pt x="1958" y="4"/>
                  </a:lnTo>
                  <a:lnTo>
                    <a:pt x="2003" y="18"/>
                  </a:lnTo>
                  <a:lnTo>
                    <a:pt x="2039" y="33"/>
                  </a:lnTo>
                  <a:lnTo>
                    <a:pt x="2073" y="54"/>
                  </a:lnTo>
                  <a:lnTo>
                    <a:pt x="2118" y="88"/>
                  </a:lnTo>
                  <a:lnTo>
                    <a:pt x="2153" y="109"/>
                  </a:lnTo>
                  <a:lnTo>
                    <a:pt x="2192" y="124"/>
                  </a:lnTo>
                  <a:lnTo>
                    <a:pt x="2244" y="135"/>
                  </a:lnTo>
                  <a:lnTo>
                    <a:pt x="2303" y="138"/>
                  </a:lnTo>
                  <a:lnTo>
                    <a:pt x="2355" y="129"/>
                  </a:lnTo>
                  <a:lnTo>
                    <a:pt x="2412" y="106"/>
                  </a:lnTo>
                  <a:lnTo>
                    <a:pt x="2439" y="87"/>
                  </a:lnTo>
                  <a:lnTo>
                    <a:pt x="2463" y="66"/>
                  </a:lnTo>
                  <a:lnTo>
                    <a:pt x="2475" y="61"/>
                  </a:lnTo>
                  <a:lnTo>
                    <a:pt x="2489" y="61"/>
                  </a:lnTo>
                  <a:lnTo>
                    <a:pt x="2499" y="66"/>
                  </a:lnTo>
                  <a:lnTo>
                    <a:pt x="2507" y="76"/>
                  </a:lnTo>
                  <a:lnTo>
                    <a:pt x="2508" y="85"/>
                  </a:lnTo>
                  <a:lnTo>
                    <a:pt x="2508" y="96"/>
                  </a:lnTo>
                  <a:lnTo>
                    <a:pt x="2504" y="106"/>
                  </a:lnTo>
                  <a:lnTo>
                    <a:pt x="2490" y="118"/>
                  </a:lnTo>
                  <a:lnTo>
                    <a:pt x="2463" y="139"/>
                  </a:lnTo>
                  <a:lnTo>
                    <a:pt x="2429" y="160"/>
                  </a:lnTo>
                  <a:lnTo>
                    <a:pt x="2399" y="172"/>
                  </a:lnTo>
                  <a:lnTo>
                    <a:pt x="2352" y="183"/>
                  </a:lnTo>
                  <a:lnTo>
                    <a:pt x="2298" y="186"/>
                  </a:lnTo>
                  <a:lnTo>
                    <a:pt x="2238" y="184"/>
                  </a:lnTo>
                  <a:lnTo>
                    <a:pt x="2192" y="180"/>
                  </a:lnTo>
                  <a:lnTo>
                    <a:pt x="2156" y="172"/>
                  </a:lnTo>
                  <a:lnTo>
                    <a:pt x="2114" y="156"/>
                  </a:lnTo>
                  <a:lnTo>
                    <a:pt x="2076" y="133"/>
                  </a:lnTo>
                  <a:lnTo>
                    <a:pt x="2049" y="112"/>
                  </a:lnTo>
                  <a:lnTo>
                    <a:pt x="2018" y="87"/>
                  </a:lnTo>
                  <a:lnTo>
                    <a:pt x="1977" y="67"/>
                  </a:lnTo>
                  <a:lnTo>
                    <a:pt x="1934" y="55"/>
                  </a:lnTo>
                  <a:lnTo>
                    <a:pt x="1886" y="49"/>
                  </a:lnTo>
                  <a:lnTo>
                    <a:pt x="1836" y="49"/>
                  </a:lnTo>
                  <a:lnTo>
                    <a:pt x="1776" y="64"/>
                  </a:lnTo>
                  <a:lnTo>
                    <a:pt x="1743" y="79"/>
                  </a:lnTo>
                  <a:lnTo>
                    <a:pt x="1707" y="99"/>
                  </a:lnTo>
                  <a:lnTo>
                    <a:pt x="1677" y="118"/>
                  </a:lnTo>
                  <a:lnTo>
                    <a:pt x="1626" y="147"/>
                  </a:lnTo>
                  <a:lnTo>
                    <a:pt x="1586" y="165"/>
                  </a:lnTo>
                  <a:lnTo>
                    <a:pt x="1535" y="180"/>
                  </a:lnTo>
                  <a:lnTo>
                    <a:pt x="1475" y="186"/>
                  </a:lnTo>
                  <a:lnTo>
                    <a:pt x="1437" y="186"/>
                  </a:lnTo>
                  <a:lnTo>
                    <a:pt x="1377" y="180"/>
                  </a:lnTo>
                  <a:lnTo>
                    <a:pt x="1322" y="165"/>
                  </a:lnTo>
                  <a:lnTo>
                    <a:pt x="1269" y="136"/>
                  </a:lnTo>
                  <a:lnTo>
                    <a:pt x="1230" y="109"/>
                  </a:lnTo>
                  <a:lnTo>
                    <a:pt x="1197" y="84"/>
                  </a:lnTo>
                  <a:lnTo>
                    <a:pt x="1163" y="67"/>
                  </a:lnTo>
                  <a:lnTo>
                    <a:pt x="1128" y="55"/>
                  </a:lnTo>
                  <a:lnTo>
                    <a:pt x="1071" y="48"/>
                  </a:lnTo>
                  <a:lnTo>
                    <a:pt x="1020" y="49"/>
                  </a:lnTo>
                  <a:lnTo>
                    <a:pt x="974" y="57"/>
                  </a:lnTo>
                  <a:lnTo>
                    <a:pt x="914" y="78"/>
                  </a:lnTo>
                  <a:lnTo>
                    <a:pt x="879" y="103"/>
                  </a:lnTo>
                  <a:lnTo>
                    <a:pt x="831" y="135"/>
                  </a:lnTo>
                  <a:lnTo>
                    <a:pt x="777" y="166"/>
                  </a:lnTo>
                  <a:lnTo>
                    <a:pt x="713" y="187"/>
                  </a:lnTo>
                  <a:lnTo>
                    <a:pt x="659" y="193"/>
                  </a:lnTo>
                  <a:lnTo>
                    <a:pt x="600" y="195"/>
                  </a:lnTo>
                  <a:lnTo>
                    <a:pt x="543" y="189"/>
                  </a:lnTo>
                  <a:lnTo>
                    <a:pt x="494" y="175"/>
                  </a:lnTo>
                  <a:lnTo>
                    <a:pt x="450" y="154"/>
                  </a:lnTo>
                  <a:lnTo>
                    <a:pt x="408" y="123"/>
                  </a:lnTo>
                  <a:lnTo>
                    <a:pt x="377" y="99"/>
                  </a:lnTo>
                  <a:lnTo>
                    <a:pt x="338" y="79"/>
                  </a:lnTo>
                  <a:lnTo>
                    <a:pt x="291" y="64"/>
                  </a:lnTo>
                  <a:lnTo>
                    <a:pt x="251" y="60"/>
                  </a:lnTo>
                  <a:lnTo>
                    <a:pt x="191" y="58"/>
                  </a:lnTo>
                  <a:lnTo>
                    <a:pt x="144" y="67"/>
                  </a:lnTo>
                  <a:lnTo>
                    <a:pt x="96" y="82"/>
                  </a:lnTo>
                  <a:lnTo>
                    <a:pt x="56" y="108"/>
                  </a:lnTo>
                  <a:lnTo>
                    <a:pt x="0" y="157"/>
                  </a:lnTo>
                  <a:lnTo>
                    <a:pt x="5" y="93"/>
                  </a:lnTo>
                </a:path>
              </a:pathLst>
            </a:custGeom>
            <a:solidFill>
              <a:srgbClr val="c3b5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3486240"/>
              <a:ext cx="4390920" cy="34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B3751-6922-49A3-914A-68C85FC904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I%20CAN%20advanced%20counting.doc" TargetMode="Externa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32000" y="2997360"/>
            <a:ext cx="6440400" cy="230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empus Sans ITC"/>
              </a:rPr>
              <a:t>Maths at Te Kowhai Scho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empus Sans ITC"/>
              </a:rPr>
              <a:t>Information for Par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4" descr="tekowhai_logo33"/>
          <p:cNvPicPr/>
          <p:nvPr/>
        </p:nvPicPr>
        <p:blipFill>
          <a:blip r:embed="rId1"/>
          <a:stretch/>
        </p:blipFill>
        <p:spPr>
          <a:xfrm>
            <a:off x="2843280" y="907920"/>
            <a:ext cx="3097080" cy="171288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Times New Roman"/>
              </a:rPr>
              <a:t>Count From One on Mater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1027"/>
          <p:cNvSpPr/>
          <p:nvPr/>
        </p:nvSpPr>
        <p:spPr>
          <a:xfrm>
            <a:off x="4932360" y="1557360"/>
            <a:ext cx="3384720" cy="2663640"/>
          </a:xfrm>
          <a:prstGeom prst="wedgeEllipseCallout">
            <a:avLst>
              <a:gd name="adj1" fmla="val -73731"/>
              <a:gd name="adj2" fmla="val 33550"/>
            </a:avLst>
          </a:prstGeom>
          <a:solidFill>
            <a:srgbClr val="9cb3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1,2,3,4,5,6,7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1028" descr=""/>
          <p:cNvPicPr/>
          <p:nvPr/>
        </p:nvPicPr>
        <p:blipFill>
          <a:blip r:embed="rId1"/>
          <a:stretch/>
        </p:blipFill>
        <p:spPr>
          <a:xfrm>
            <a:off x="1187280" y="2781360"/>
            <a:ext cx="2637000" cy="32306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029"/>
          <p:cNvSpPr/>
          <p:nvPr/>
        </p:nvSpPr>
        <p:spPr>
          <a:xfrm>
            <a:off x="539640" y="1484280"/>
            <a:ext cx="38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There are 4 counters and another 3 counters.  How many are there altogeth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030"/>
          <p:cNvSpPr/>
          <p:nvPr/>
        </p:nvSpPr>
        <p:spPr>
          <a:xfrm>
            <a:off x="4643280" y="4508640"/>
            <a:ext cx="388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child solves the problem by using their fingers or other materials and counts from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Times New Roman"/>
              </a:rPr>
              <a:t>Count From One By Ima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up 3"/>
          <p:cNvGrpSpPr/>
          <p:nvPr/>
        </p:nvGrpSpPr>
        <p:grpSpPr>
          <a:xfrm>
            <a:off x="539640" y="1484280"/>
            <a:ext cx="7991640" cy="4581360"/>
            <a:chOff x="539640" y="1484280"/>
            <a:chExt cx="7991640" cy="4581360"/>
          </a:xfrm>
        </p:grpSpPr>
        <p:sp>
          <p:nvSpPr>
            <p:cNvPr id="123" name="AutoShape 4"/>
            <p:cNvSpPr/>
            <p:nvPr/>
          </p:nvSpPr>
          <p:spPr>
            <a:xfrm>
              <a:off x="4788000" y="1557360"/>
              <a:ext cx="3671640" cy="2663640"/>
            </a:xfrm>
            <a:prstGeom prst="wedgeEllipseCallout">
              <a:avLst>
                <a:gd name="adj1" fmla="val -71875"/>
                <a:gd name="adj2" fmla="val 25449"/>
              </a:avLst>
            </a:prstGeom>
            <a:solidFill>
              <a:srgbClr val="9cb3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800" spc="-1" strike="noStrike">
                  <a:solidFill>
                    <a:srgbClr val="000000"/>
                  </a:solidFill>
                  <a:latin typeface="Arial"/>
                </a:rPr>
                <a:t>Counts in head</a:t>
              </a:r>
              <a:r>
                <a:rPr b="0" lang="en-NZ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NZ" sz="4000" spc="-1" strike="noStrike">
                  <a:solidFill>
                    <a:srgbClr val="000000"/>
                  </a:solidFill>
                  <a:latin typeface="Arial"/>
                </a:rPr>
                <a:t>1,2,3,4,5,6,7,8.</a:t>
              </a:r>
              <a:r>
                <a:rPr b="0" lang="en-NZ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4" name="Picture 5" descr=""/>
            <p:cNvPicPr/>
            <p:nvPr/>
          </p:nvPicPr>
          <p:blipFill>
            <a:blip r:embed="rId1"/>
            <a:stretch/>
          </p:blipFill>
          <p:spPr>
            <a:xfrm>
              <a:off x="1187280" y="2997360"/>
              <a:ext cx="2284560" cy="27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6"/>
            <p:cNvSpPr/>
            <p:nvPr/>
          </p:nvSpPr>
          <p:spPr>
            <a:xfrm>
              <a:off x="539640" y="1484280"/>
              <a:ext cx="3888000" cy="174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NZ" sz="2400" spc="-1" strike="noStrike">
                  <a:solidFill>
                    <a:srgbClr val="000000"/>
                  </a:solidFill>
                  <a:latin typeface="Arial"/>
                </a:rPr>
                <a:t>There are 4 counters and another 3 counters.  How many are there altogether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Text Box 7"/>
            <p:cNvSpPr/>
            <p:nvPr/>
          </p:nvSpPr>
          <p:spPr>
            <a:xfrm>
              <a:off x="4643280" y="4508640"/>
              <a:ext cx="3888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Arial"/>
                </a:rPr>
                <a:t>The child counts all the objects from one by imaging visual patterns of the objects in their mind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Times New Roman"/>
              </a:rPr>
              <a:t>Advanced 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Group 3"/>
          <p:cNvGrpSpPr/>
          <p:nvPr/>
        </p:nvGrpSpPr>
        <p:grpSpPr>
          <a:xfrm>
            <a:off x="539640" y="1484280"/>
            <a:ext cx="7920000" cy="4456080"/>
            <a:chOff x="539640" y="1484280"/>
            <a:chExt cx="7920000" cy="4456080"/>
          </a:xfrm>
        </p:grpSpPr>
        <p:sp>
          <p:nvSpPr>
            <p:cNvPr id="129" name="AutoShape 4"/>
            <p:cNvSpPr/>
            <p:nvPr/>
          </p:nvSpPr>
          <p:spPr>
            <a:xfrm>
              <a:off x="4788000" y="1557360"/>
              <a:ext cx="3671640" cy="2663640"/>
            </a:xfrm>
            <a:prstGeom prst="wedgeEllipseCallout">
              <a:avLst>
                <a:gd name="adj1" fmla="val -71875"/>
                <a:gd name="adj2" fmla="val 25449"/>
              </a:avLst>
            </a:prstGeom>
            <a:solidFill>
              <a:srgbClr val="9cb3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800" spc="-1" strike="noStrike">
                  <a:solidFill>
                    <a:srgbClr val="000000"/>
                  </a:solidFill>
                  <a:latin typeface="Arial"/>
                </a:rPr>
                <a:t>Counts on  </a:t>
              </a:r>
              <a:r>
                <a:rPr b="0" lang="en-NZ" sz="4000" spc="-1" strike="noStrike">
                  <a:solidFill>
                    <a:srgbClr val="000000"/>
                  </a:solidFill>
                  <a:latin typeface="Arial"/>
                </a:rPr>
                <a:t>9, 10, 11, 12, 13.</a:t>
              </a:r>
              <a:r>
                <a:rPr b="0" lang="en-NZ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0" name="Picture 5" descr=""/>
            <p:cNvPicPr/>
            <p:nvPr/>
          </p:nvPicPr>
          <p:blipFill>
            <a:blip r:embed="rId1"/>
            <a:stretch/>
          </p:blipFill>
          <p:spPr>
            <a:xfrm>
              <a:off x="1187280" y="3141720"/>
              <a:ext cx="2284560" cy="27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6"/>
            <p:cNvSpPr/>
            <p:nvPr/>
          </p:nvSpPr>
          <p:spPr>
            <a:xfrm>
              <a:off x="539640" y="1484280"/>
              <a:ext cx="3888000" cy="21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NZ" sz="2400" spc="-1" strike="noStrike">
                  <a:solidFill>
                    <a:srgbClr val="000000"/>
                  </a:solidFill>
                  <a:latin typeface="Arial"/>
                </a:rPr>
                <a:t>There are 9 counters under there and another 4 counters under there.  How many are there altogether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 Box 7"/>
            <p:cNvSpPr/>
            <p:nvPr/>
          </p:nvSpPr>
          <p:spPr>
            <a:xfrm>
              <a:off x="4572000" y="4869000"/>
              <a:ext cx="3887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Arial"/>
                </a:rPr>
                <a:t>The child counts on from the largest 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Times New Roman"/>
              </a:rPr>
              <a:t>Early Additive / Part-Wh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Group 3"/>
          <p:cNvGrpSpPr/>
          <p:nvPr/>
        </p:nvGrpSpPr>
        <p:grpSpPr>
          <a:xfrm>
            <a:off x="539640" y="1484280"/>
            <a:ext cx="7920000" cy="4941720"/>
            <a:chOff x="539640" y="1484280"/>
            <a:chExt cx="7920000" cy="4941720"/>
          </a:xfrm>
        </p:grpSpPr>
        <p:sp>
          <p:nvSpPr>
            <p:cNvPr id="135" name="AutoShape 4"/>
            <p:cNvSpPr/>
            <p:nvPr/>
          </p:nvSpPr>
          <p:spPr>
            <a:xfrm>
              <a:off x="4788000" y="1628640"/>
              <a:ext cx="3671640" cy="2880000"/>
            </a:xfrm>
            <a:prstGeom prst="wedgeEllipseCallout">
              <a:avLst>
                <a:gd name="adj1" fmla="val -75032"/>
                <a:gd name="adj2" fmla="val 29439"/>
              </a:avLst>
            </a:prstGeom>
            <a:solidFill>
              <a:srgbClr val="9cb3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NZ" sz="2800" spc="-1" strike="noStrike">
                  <a:solidFill>
                    <a:srgbClr val="000000"/>
                  </a:solidFill>
                  <a:latin typeface="Arial"/>
                </a:rPr>
                <a:t>I know tha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800" spc="-1" strike="noStrike">
                  <a:solidFill>
                    <a:srgbClr val="000000"/>
                  </a:solidFill>
                  <a:latin typeface="Arial"/>
                </a:rPr>
                <a:t>If I take one off the 6 and put it on the 9 it =10.  10 + 5 = 15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6" name="Picture 5" descr=""/>
            <p:cNvPicPr/>
            <p:nvPr/>
          </p:nvPicPr>
          <p:blipFill>
            <a:blip r:embed="rId1"/>
            <a:stretch/>
          </p:blipFill>
          <p:spPr>
            <a:xfrm>
              <a:off x="1187280" y="3141720"/>
              <a:ext cx="2284560" cy="302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6"/>
            <p:cNvSpPr/>
            <p:nvPr/>
          </p:nvSpPr>
          <p:spPr>
            <a:xfrm>
              <a:off x="539640" y="1484280"/>
              <a:ext cx="3888000" cy="21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NZ" sz="2400" spc="-1" strike="noStrike">
                  <a:solidFill>
                    <a:srgbClr val="000000"/>
                  </a:solidFill>
                  <a:latin typeface="Arial"/>
                </a:rPr>
                <a:t>There are 9 counters under there and another 6 counters under there.  How many are there altogether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Text Box 7"/>
            <p:cNvSpPr/>
            <p:nvPr/>
          </p:nvSpPr>
          <p:spPr>
            <a:xfrm>
              <a:off x="4572000" y="4869000"/>
              <a:ext cx="38876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Arial"/>
                </a:rPr>
                <a:t>The child uses simple strategies to solve addition and subtraction problems mentall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Times New Roman"/>
              </a:rPr>
              <a:t>Advanced Additive / Part-Wh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3"/>
          <p:cNvGrpSpPr/>
          <p:nvPr/>
        </p:nvGrpSpPr>
        <p:grpSpPr>
          <a:xfrm>
            <a:off x="539640" y="1484280"/>
            <a:ext cx="8066160" cy="4683240"/>
            <a:chOff x="539640" y="1484280"/>
            <a:chExt cx="8066160" cy="4683240"/>
          </a:xfrm>
        </p:grpSpPr>
        <p:sp>
          <p:nvSpPr>
            <p:cNvPr id="141" name="AutoShape 4"/>
            <p:cNvSpPr/>
            <p:nvPr/>
          </p:nvSpPr>
          <p:spPr>
            <a:xfrm>
              <a:off x="4500720" y="1484280"/>
              <a:ext cx="3958920" cy="2879640"/>
            </a:xfrm>
            <a:prstGeom prst="wedgeEllipseCallout">
              <a:avLst>
                <a:gd name="adj1" fmla="val -65958"/>
                <a:gd name="adj2" fmla="val 29439"/>
              </a:avLst>
            </a:prstGeom>
            <a:solidFill>
              <a:srgbClr val="9cb3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800" spc="-1" strike="noStrike">
                  <a:solidFill>
                    <a:srgbClr val="000000"/>
                  </a:solidFill>
                  <a:latin typeface="Arial"/>
                </a:rPr>
                <a:t>I think tidy numbers would be smartest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800" spc="-1" strike="noStrike">
                  <a:solidFill>
                    <a:srgbClr val="000000"/>
                  </a:solidFill>
                  <a:latin typeface="Arial"/>
                </a:rPr>
                <a:t>63 – 40 = 23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800" spc="-1" strike="noStrike">
                  <a:solidFill>
                    <a:srgbClr val="000000"/>
                  </a:solidFill>
                  <a:latin typeface="Arial"/>
                </a:rPr>
                <a:t>23 + 1 = 2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2" name="Picture 5" descr=""/>
            <p:cNvPicPr/>
            <p:nvPr/>
          </p:nvPicPr>
          <p:blipFill>
            <a:blip r:embed="rId1"/>
            <a:stretch/>
          </p:blipFill>
          <p:spPr>
            <a:xfrm>
              <a:off x="1187280" y="3141720"/>
              <a:ext cx="2284560" cy="302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 Box 6"/>
            <p:cNvSpPr/>
            <p:nvPr/>
          </p:nvSpPr>
          <p:spPr>
            <a:xfrm>
              <a:off x="539640" y="1484280"/>
              <a:ext cx="3888000" cy="21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NZ" sz="2400" spc="-1" strike="noStrike">
                  <a:solidFill>
                    <a:srgbClr val="000000"/>
                  </a:solidFill>
                  <a:latin typeface="Arial"/>
                </a:rPr>
                <a:t>63 people are on the bus and 39 people get off the bus.  How many people are left on the bus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Text Box 7"/>
            <p:cNvSpPr/>
            <p:nvPr/>
          </p:nvSpPr>
          <p:spPr>
            <a:xfrm>
              <a:off x="4140360" y="4508640"/>
              <a:ext cx="44654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Arial"/>
                </a:rPr>
                <a:t>The child can select from a wide range of strategies to solve various addition and subtraction problems mentall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Times New Roman"/>
              </a:rPr>
              <a:t>Advanced Multiplica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Group 3"/>
          <p:cNvGrpSpPr/>
          <p:nvPr/>
        </p:nvGrpSpPr>
        <p:grpSpPr>
          <a:xfrm>
            <a:off x="539640" y="1484280"/>
            <a:ext cx="7993080" cy="4611600"/>
            <a:chOff x="539640" y="1484280"/>
            <a:chExt cx="7993080" cy="4611600"/>
          </a:xfrm>
        </p:grpSpPr>
        <p:sp>
          <p:nvSpPr>
            <p:cNvPr id="147" name="AutoShape 4"/>
            <p:cNvSpPr/>
            <p:nvPr/>
          </p:nvSpPr>
          <p:spPr>
            <a:xfrm>
              <a:off x="4284720" y="1628640"/>
              <a:ext cx="4174920" cy="2232000"/>
            </a:xfrm>
            <a:prstGeom prst="wedgeEllipseCallout">
              <a:avLst>
                <a:gd name="adj1" fmla="val -59962"/>
                <a:gd name="adj2" fmla="val 46018"/>
              </a:avLst>
            </a:prstGeom>
            <a:solidFill>
              <a:srgbClr val="9cb3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Arial"/>
                </a:rPr>
                <a:t>Tidy Numbers would be a smart strategy. 30 x 6 = 18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Arial"/>
                </a:rPr>
                <a:t>180 – (2 x 6) = 16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8" name="Picture 5" descr=""/>
            <p:cNvPicPr/>
            <p:nvPr/>
          </p:nvPicPr>
          <p:blipFill>
            <a:blip r:embed="rId1"/>
            <a:stretch/>
          </p:blipFill>
          <p:spPr>
            <a:xfrm>
              <a:off x="1187280" y="3429000"/>
              <a:ext cx="20131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6"/>
            <p:cNvSpPr/>
            <p:nvPr/>
          </p:nvSpPr>
          <p:spPr>
            <a:xfrm>
              <a:off x="539640" y="1484280"/>
              <a:ext cx="410364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NZ" sz="2400" spc="-1" strike="noStrike">
                  <a:solidFill>
                    <a:srgbClr val="000000"/>
                  </a:solidFill>
                  <a:latin typeface="Arial"/>
                </a:rPr>
                <a:t>There are 28 fruit trees in each aisle of the orchard. There are 6 aisles.  How many trees are there altogether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Text Box 7"/>
            <p:cNvSpPr/>
            <p:nvPr/>
          </p:nvSpPr>
          <p:spPr>
            <a:xfrm>
              <a:off x="4067280" y="4221000"/>
              <a:ext cx="44654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Arial"/>
                </a:rPr>
                <a:t>The child can select from a wide range of strategies to solve various multiplication and division problems mentally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Times New Roman"/>
              </a:rPr>
              <a:t>Advanced Propor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3"/>
          <p:cNvSpPr/>
          <p:nvPr/>
        </p:nvSpPr>
        <p:spPr>
          <a:xfrm>
            <a:off x="4284720" y="1484280"/>
            <a:ext cx="4174920" cy="2735280"/>
          </a:xfrm>
          <a:prstGeom prst="wedgeEllipseCallout">
            <a:avLst>
              <a:gd name="adj1" fmla="val -59962"/>
              <a:gd name="adj2" fmla="val 38856"/>
            </a:avLst>
          </a:prstGeom>
          <a:solidFill>
            <a:srgbClr val="9cb3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 can see that 9:15 are both multiples of 3.  I can simplify b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÷3 and get a ratio of 3: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: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187280" y="3429000"/>
            <a:ext cx="2013120" cy="266688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539640" y="1484280"/>
            <a:ext cx="3745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You can make 9 mittens from 15 balls of wool.  How many mittens can you make from 10 balls of woo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3995640" y="4292640"/>
            <a:ext cx="446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child can select from a wide range of strategies to solve challenging problems involving, decimals, fraction percentages and rat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Times New Roman"/>
              </a:rPr>
              <a:t>Number Strategies </a:t>
            </a:r>
            <a:r>
              <a:rPr b="0" lang="en-NZ" sz="2300" spc="-1" strike="noStrike">
                <a:solidFill>
                  <a:srgbClr val="000000"/>
                </a:solidFill>
                <a:latin typeface="Times New Roman"/>
              </a:rPr>
              <a:t>Subtractio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lang="en-NZ" sz="4000" spc="-1" strike="noStrike">
                <a:solidFill>
                  <a:srgbClr val="000000"/>
                </a:solidFill>
                <a:latin typeface="Times New Roman"/>
              </a:rPr>
              <a:t>5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people on the bu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9 people get off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many people are </a:t>
            </a:r>
            <a:r>
              <a:rPr b="0" lang="en-NZ" sz="4000" spc="-1" strike="noStrike">
                <a:solidFill>
                  <a:srgbClr val="000000"/>
                </a:solidFill>
                <a:latin typeface="Times New Roman"/>
              </a:rPr>
              <a:t>now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on 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u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Times New Roman"/>
              </a:rPr>
              <a:t>Solution 53 – 29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How did you work it ou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What happened in your hea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Times New Roman"/>
              </a:rPr>
              <a:t>Share your different strategies with the people around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Times New Roman"/>
              </a:rPr>
              <a:t>Make sense of these strateg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3"/>
          <p:cNvSpPr/>
          <p:nvPr/>
        </p:nvSpPr>
        <p:spPr>
          <a:xfrm>
            <a:off x="5529240" y="1481040"/>
            <a:ext cx="3041640" cy="1603440"/>
          </a:xfrm>
          <a:prstGeom prst="wedgeEllipseCallout">
            <a:avLst>
              <a:gd name="adj1" fmla="val -57314"/>
              <a:gd name="adj2" fmla="val 84222"/>
            </a:avLst>
          </a:prstGeom>
          <a:solidFill>
            <a:srgbClr val="0a0a87"/>
          </a:solidFill>
          <a:ln w="9360">
            <a:solidFill>
              <a:srgbClr val="ffff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e"/>
                </a:solidFill>
                <a:latin typeface="Comic Sans MS"/>
              </a:rPr>
              <a:t>“</a:t>
            </a:r>
            <a:r>
              <a:rPr b="0" lang="en-US" sz="1800" spc="-1" strike="noStrike">
                <a:solidFill>
                  <a:srgbClr val="ffffee"/>
                </a:solidFill>
                <a:latin typeface="Comic Sans MS"/>
              </a:rPr>
              <a:t>I use tidy number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e"/>
                </a:solidFill>
                <a:latin typeface="Comic Sans MS"/>
              </a:rPr>
              <a:t>53 – 30 = 23 plus 1 = 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1038240" y="5116680"/>
            <a:ext cx="4673520" cy="1274760"/>
          </a:xfrm>
          <a:prstGeom prst="wedgeEllipseCallout">
            <a:avLst>
              <a:gd name="adj1" fmla="val 43486"/>
              <a:gd name="adj2" fmla="val -119444"/>
            </a:avLst>
          </a:prstGeom>
          <a:solidFill>
            <a:srgbClr val="0a0a87"/>
          </a:solidFill>
          <a:ln w="9360">
            <a:solidFill>
              <a:srgbClr val="ffff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e"/>
                </a:solidFill>
                <a:latin typeface="Comic Sans MS"/>
              </a:rPr>
              <a:t>I use balanc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e"/>
                </a:solidFill>
                <a:latin typeface="Comic Sans MS"/>
              </a:rPr>
              <a:t>53 – 29 </a:t>
            </a:r>
            <a:r>
              <a:rPr b="0" lang="en-US" sz="1800" spc="-1" strike="noStrike">
                <a:solidFill>
                  <a:srgbClr val="ffffee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ee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ee"/>
                </a:solidFill>
                <a:latin typeface="Comic Sans MS"/>
              </a:rPr>
              <a:t>=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e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ffffee"/>
                </a:solidFill>
                <a:latin typeface="Comic Sans MS"/>
              </a:rPr>
              <a:t>54 – 30</a:t>
            </a:r>
            <a:r>
              <a:rPr b="0" lang="en-US" sz="1800" spc="-1" strike="noStrike">
                <a:solidFill>
                  <a:srgbClr val="ffffee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ee"/>
                </a:solidFill>
                <a:latin typeface="Comic Sans MS"/>
              </a:rPr>
              <a:t>     = 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3b59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5"/>
          <p:cNvSpPr/>
          <p:nvPr/>
        </p:nvSpPr>
        <p:spPr>
          <a:xfrm>
            <a:off x="5489640" y="3241800"/>
            <a:ext cx="3403440" cy="3400200"/>
          </a:xfrm>
          <a:prstGeom prst="cloudCallout">
            <a:avLst>
              <a:gd name="adj1" fmla="val -66138"/>
              <a:gd name="adj2" fmla="val -34546"/>
            </a:avLst>
          </a:prstGeom>
          <a:solidFill>
            <a:srgbClr val="0a0a87"/>
          </a:solidFill>
          <a:ln w="9360">
            <a:solidFill>
              <a:srgbClr val="ffff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e"/>
                </a:solidFill>
                <a:latin typeface="Comic Sans MS"/>
              </a:rPr>
              <a:t>“</a:t>
            </a:r>
            <a:r>
              <a:rPr b="0" lang="en-US" sz="1800" spc="-1" strike="noStrike">
                <a:solidFill>
                  <a:srgbClr val="ffffee"/>
                </a:solidFill>
                <a:latin typeface="Comic Sans MS"/>
              </a:rPr>
              <a:t>I think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e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ee"/>
                </a:solidFill>
                <a:latin typeface="Comic Sans MS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ee"/>
                </a:solidFill>
                <a:uFillTx/>
                <a:latin typeface="Comic Sans MS"/>
              </a:rPr>
              <a:t>-2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e"/>
                </a:solidFill>
                <a:latin typeface="Comic Sans MS"/>
              </a:rPr>
              <a:t>3 – 9 I can’t do so I borrow a ten.  13 – 9 = 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e"/>
                </a:solidFill>
                <a:latin typeface="Comic Sans MS"/>
              </a:rPr>
              <a:t>4 tens – 2 tens = 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e"/>
                </a:solidFill>
                <a:latin typeface="Comic Sans MS"/>
              </a:rPr>
              <a:t>It’s 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Group 6"/>
          <p:cNvGrpSpPr/>
          <p:nvPr/>
        </p:nvGrpSpPr>
        <p:grpSpPr>
          <a:xfrm>
            <a:off x="0" y="3284640"/>
            <a:ext cx="4449240" cy="1799640"/>
            <a:chOff x="0" y="3284640"/>
            <a:chExt cx="4449240" cy="1799640"/>
          </a:xfrm>
        </p:grpSpPr>
        <p:sp>
          <p:nvSpPr>
            <p:cNvPr id="165" name="AutoShape 7"/>
            <p:cNvSpPr/>
            <p:nvPr/>
          </p:nvSpPr>
          <p:spPr>
            <a:xfrm>
              <a:off x="0" y="3284640"/>
              <a:ext cx="4449240" cy="1799640"/>
            </a:xfrm>
            <a:prstGeom prst="cloudCallout">
              <a:avLst>
                <a:gd name="adj1" fmla="val 56398"/>
                <a:gd name="adj2" fmla="val -48097"/>
              </a:avLst>
            </a:prstGeom>
            <a:solidFill>
              <a:srgbClr val="0a0a87"/>
            </a:solidFill>
            <a:ln w="9360">
              <a:solidFill>
                <a:srgbClr val="ffff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Line 8"/>
            <p:cNvSpPr/>
            <p:nvPr/>
          </p:nvSpPr>
          <p:spPr>
            <a:xfrm>
              <a:off x="476640" y="4380120"/>
              <a:ext cx="3495960" cy="0"/>
            </a:xfrm>
            <a:prstGeom prst="line">
              <a:avLst/>
            </a:prstGeom>
            <a:ln w="9360">
              <a:solidFill>
                <a:srgbClr val="ffff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9"/>
            <p:cNvSpPr/>
            <p:nvPr/>
          </p:nvSpPr>
          <p:spPr>
            <a:xfrm>
              <a:off x="542520" y="3591000"/>
              <a:ext cx="32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ee"/>
                  </a:solidFill>
                  <a:latin typeface="Comic Sans MS"/>
                </a:rPr>
                <a:t>“</a:t>
              </a:r>
              <a:r>
                <a:rPr b="0" lang="en-US" sz="1800" spc="-1" strike="noStrike">
                  <a:solidFill>
                    <a:srgbClr val="ffffee"/>
                  </a:solidFill>
                  <a:latin typeface="Comic Sans MS"/>
                </a:rPr>
                <a:t>I use an open number line!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Text Box 11"/>
          <p:cNvSpPr/>
          <p:nvPr/>
        </p:nvSpPr>
        <p:spPr>
          <a:xfrm>
            <a:off x="395280" y="4441680"/>
            <a:ext cx="46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e"/>
                </a:solidFill>
                <a:latin typeface="Tahoma"/>
              </a:rPr>
              <a:t>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2"/>
          <p:cNvSpPr/>
          <p:nvPr/>
        </p:nvSpPr>
        <p:spPr>
          <a:xfrm>
            <a:off x="3279600" y="4430880"/>
            <a:ext cx="44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e"/>
                </a:solidFill>
                <a:latin typeface="Tahoma"/>
              </a:rPr>
              <a:t>5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Freeform 13"/>
          <p:cNvSpPr/>
          <p:nvPr/>
        </p:nvSpPr>
        <p:spPr>
          <a:xfrm>
            <a:off x="900000" y="4106880"/>
            <a:ext cx="1924200" cy="330120"/>
          </a:xfrm>
          <a:custGeom>
            <a:avLst/>
            <a:gdLst/>
            <a:ahLst/>
            <a:rect l="l" t="t" r="r" b="b"/>
            <a:pathLst>
              <a:path w="798" h="329">
                <a:moveTo>
                  <a:pt x="0" y="320"/>
                </a:moveTo>
                <a:cubicBezTo>
                  <a:pt x="7" y="291"/>
                  <a:pt x="27" y="194"/>
                  <a:pt x="56" y="168"/>
                </a:cubicBezTo>
                <a:cubicBezTo>
                  <a:pt x="181" y="47"/>
                  <a:pt x="297" y="30"/>
                  <a:pt x="464" y="0"/>
                </a:cubicBezTo>
                <a:cubicBezTo>
                  <a:pt x="563" y="14"/>
                  <a:pt x="681" y="74"/>
                  <a:pt x="728" y="168"/>
                </a:cubicBezTo>
                <a:cubicBezTo>
                  <a:pt x="733" y="195"/>
                  <a:pt x="748" y="280"/>
                  <a:pt x="760" y="304"/>
                </a:cubicBezTo>
                <a:cubicBezTo>
                  <a:pt x="772" y="329"/>
                  <a:pt x="798" y="328"/>
                  <a:pt x="776" y="328"/>
                </a:cubicBezTo>
              </a:path>
            </a:pathLst>
          </a:custGeom>
          <a:noFill/>
          <a:ln w="9360">
            <a:solidFill>
              <a:srgbClr val="ffff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4"/>
          <p:cNvSpPr/>
          <p:nvPr/>
        </p:nvSpPr>
        <p:spPr>
          <a:xfrm>
            <a:off x="1474920" y="3890880"/>
            <a:ext cx="5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e"/>
                </a:solidFill>
                <a:latin typeface="Tahoma"/>
              </a:rPr>
              <a:t>+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Group 15"/>
          <p:cNvGrpSpPr/>
          <p:nvPr/>
        </p:nvGrpSpPr>
        <p:grpSpPr>
          <a:xfrm>
            <a:off x="611280" y="4178160"/>
            <a:ext cx="288720" cy="755640"/>
            <a:chOff x="611280" y="4178160"/>
            <a:chExt cx="288720" cy="755640"/>
          </a:xfrm>
        </p:grpSpPr>
        <p:sp>
          <p:nvSpPr>
            <p:cNvPr id="173" name="Freeform 16"/>
            <p:cNvSpPr/>
            <p:nvPr/>
          </p:nvSpPr>
          <p:spPr>
            <a:xfrm>
              <a:off x="611280" y="4178160"/>
              <a:ext cx="288720" cy="249480"/>
            </a:xfrm>
            <a:custGeom>
              <a:avLst/>
              <a:gdLst/>
              <a:ahLst/>
              <a:rect l="l" t="t" r="r" b="b"/>
              <a:pathLst>
                <a:path w="824" h="256">
                  <a:moveTo>
                    <a:pt x="0" y="256"/>
                  </a:moveTo>
                  <a:cubicBezTo>
                    <a:pt x="16" y="218"/>
                    <a:pt x="32" y="181"/>
                    <a:pt x="48" y="144"/>
                  </a:cubicBezTo>
                  <a:cubicBezTo>
                    <a:pt x="54" y="129"/>
                    <a:pt x="57" y="105"/>
                    <a:pt x="72" y="96"/>
                  </a:cubicBezTo>
                  <a:cubicBezTo>
                    <a:pt x="81" y="89"/>
                    <a:pt x="93" y="91"/>
                    <a:pt x="104" y="88"/>
                  </a:cubicBezTo>
                  <a:cubicBezTo>
                    <a:pt x="240" y="38"/>
                    <a:pt x="327" y="10"/>
                    <a:pt x="472" y="0"/>
                  </a:cubicBezTo>
                  <a:cubicBezTo>
                    <a:pt x="554" y="9"/>
                    <a:pt x="625" y="28"/>
                    <a:pt x="704" y="56"/>
                  </a:cubicBezTo>
                  <a:cubicBezTo>
                    <a:pt x="726" y="63"/>
                    <a:pt x="768" y="88"/>
                    <a:pt x="768" y="88"/>
                  </a:cubicBezTo>
                  <a:cubicBezTo>
                    <a:pt x="773" y="96"/>
                    <a:pt x="780" y="103"/>
                    <a:pt x="784" y="112"/>
                  </a:cubicBezTo>
                  <a:cubicBezTo>
                    <a:pt x="790" y="127"/>
                    <a:pt x="800" y="160"/>
                    <a:pt x="800" y="160"/>
                  </a:cubicBezTo>
                  <a:cubicBezTo>
                    <a:pt x="808" y="253"/>
                    <a:pt x="781" y="234"/>
                    <a:pt x="824" y="256"/>
                  </a:cubicBezTo>
                </a:path>
              </a:pathLst>
            </a:custGeom>
            <a:noFill/>
            <a:ln w="9360">
              <a:solidFill>
                <a:srgbClr val="ffffe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17"/>
            <p:cNvSpPr/>
            <p:nvPr/>
          </p:nvSpPr>
          <p:spPr>
            <a:xfrm>
              <a:off x="673200" y="4200480"/>
              <a:ext cx="1839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3b59f"/>
                  </a:solidFill>
                  <a:latin typeface="Tahoma"/>
                </a:rPr>
                <a:t>+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Text Box 18"/>
          <p:cNvSpPr/>
          <p:nvPr/>
        </p:nvSpPr>
        <p:spPr>
          <a:xfrm>
            <a:off x="684360" y="4437000"/>
            <a:ext cx="46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e"/>
                </a:solidFill>
                <a:latin typeface="Tahoma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9"/>
          <p:cNvSpPr/>
          <p:nvPr/>
        </p:nvSpPr>
        <p:spPr>
          <a:xfrm>
            <a:off x="2916360" y="3916440"/>
            <a:ext cx="5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e"/>
                </a:solidFill>
                <a:latin typeface="Tahoma"/>
              </a:rPr>
              <a:t>+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20"/>
          <p:cNvSpPr/>
          <p:nvPr/>
        </p:nvSpPr>
        <p:spPr>
          <a:xfrm>
            <a:off x="468360" y="393372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e"/>
                </a:solidFill>
                <a:latin typeface="Tahoma"/>
              </a:rPr>
              <a:t>+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Group 21"/>
          <p:cNvGrpSpPr/>
          <p:nvPr/>
        </p:nvGrpSpPr>
        <p:grpSpPr>
          <a:xfrm>
            <a:off x="2771640" y="4149720"/>
            <a:ext cx="792360" cy="326520"/>
            <a:chOff x="2771640" y="4149720"/>
            <a:chExt cx="792360" cy="326520"/>
          </a:xfrm>
        </p:grpSpPr>
        <p:sp>
          <p:nvSpPr>
            <p:cNvPr id="179" name="Freeform 22"/>
            <p:cNvSpPr/>
            <p:nvPr/>
          </p:nvSpPr>
          <p:spPr>
            <a:xfrm>
              <a:off x="2771640" y="4149720"/>
              <a:ext cx="792360" cy="249120"/>
            </a:xfrm>
            <a:custGeom>
              <a:avLst/>
              <a:gdLst/>
              <a:ahLst/>
              <a:rect l="l" t="t" r="r" b="b"/>
              <a:pathLst>
                <a:path w="824" h="256">
                  <a:moveTo>
                    <a:pt x="0" y="256"/>
                  </a:moveTo>
                  <a:cubicBezTo>
                    <a:pt x="16" y="218"/>
                    <a:pt x="32" y="181"/>
                    <a:pt x="48" y="144"/>
                  </a:cubicBezTo>
                  <a:cubicBezTo>
                    <a:pt x="54" y="129"/>
                    <a:pt x="57" y="105"/>
                    <a:pt x="72" y="96"/>
                  </a:cubicBezTo>
                  <a:cubicBezTo>
                    <a:pt x="81" y="89"/>
                    <a:pt x="93" y="91"/>
                    <a:pt x="104" y="88"/>
                  </a:cubicBezTo>
                  <a:cubicBezTo>
                    <a:pt x="240" y="38"/>
                    <a:pt x="327" y="10"/>
                    <a:pt x="472" y="0"/>
                  </a:cubicBezTo>
                  <a:cubicBezTo>
                    <a:pt x="554" y="9"/>
                    <a:pt x="625" y="28"/>
                    <a:pt x="704" y="56"/>
                  </a:cubicBezTo>
                  <a:cubicBezTo>
                    <a:pt x="726" y="63"/>
                    <a:pt x="768" y="88"/>
                    <a:pt x="768" y="88"/>
                  </a:cubicBezTo>
                  <a:cubicBezTo>
                    <a:pt x="773" y="96"/>
                    <a:pt x="780" y="103"/>
                    <a:pt x="784" y="112"/>
                  </a:cubicBezTo>
                  <a:cubicBezTo>
                    <a:pt x="790" y="127"/>
                    <a:pt x="800" y="160"/>
                    <a:pt x="800" y="160"/>
                  </a:cubicBezTo>
                  <a:cubicBezTo>
                    <a:pt x="808" y="253"/>
                    <a:pt x="781" y="234"/>
                    <a:pt x="824" y="256"/>
                  </a:cubicBezTo>
                </a:path>
              </a:pathLst>
            </a:custGeom>
            <a:noFill/>
            <a:ln w="9360">
              <a:solidFill>
                <a:srgbClr val="ffffe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Text Box 23"/>
            <p:cNvSpPr/>
            <p:nvPr/>
          </p:nvSpPr>
          <p:spPr>
            <a:xfrm>
              <a:off x="2941920" y="4172040"/>
              <a:ext cx="50472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Text Box 24"/>
          <p:cNvSpPr/>
          <p:nvPr/>
        </p:nvSpPr>
        <p:spPr>
          <a:xfrm>
            <a:off x="2556000" y="4437000"/>
            <a:ext cx="46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e"/>
                </a:solidFill>
                <a:latin typeface="Tahoma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25"/>
          <p:cNvSpPr/>
          <p:nvPr/>
        </p:nvSpPr>
        <p:spPr>
          <a:xfrm>
            <a:off x="3348000" y="5734080"/>
            <a:ext cx="358920" cy="358920"/>
          </a:xfrm>
          <a:custGeom>
            <a:avLst/>
            <a:gdLst>
              <a:gd name="textAreaLeft" fmla="*/ 47880 w 358920"/>
              <a:gd name="textAreaRight" fmla="*/ 311040 w 358920"/>
              <a:gd name="textAreaTop" fmla="*/ 62640 h 358920"/>
              <a:gd name="textAreaBottom" fmla="*/ 260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cb3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26"/>
          <p:cNvSpPr/>
          <p:nvPr/>
        </p:nvSpPr>
        <p:spPr>
          <a:xfrm>
            <a:off x="1835280" y="5734080"/>
            <a:ext cx="358560" cy="287280"/>
          </a:xfrm>
          <a:custGeom>
            <a:avLst/>
            <a:gdLst>
              <a:gd name="textAreaLeft" fmla="*/ 47880 w 358560"/>
              <a:gd name="textAreaRight" fmla="*/ 310680 w 358560"/>
              <a:gd name="textAreaTop" fmla="*/ 50040 h 287280"/>
              <a:gd name="textAreaBottom" fmla="*/ 208440 h 2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cb3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27"/>
          <p:cNvSpPr/>
          <p:nvPr/>
        </p:nvSpPr>
        <p:spPr>
          <a:xfrm>
            <a:off x="1446120" y="570564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e"/>
                </a:solidFill>
                <a:latin typeface="Tahoma"/>
              </a:rPr>
              <a:t>+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28"/>
          <p:cNvSpPr/>
          <p:nvPr/>
        </p:nvSpPr>
        <p:spPr>
          <a:xfrm>
            <a:off x="3706920" y="5734080"/>
            <a:ext cx="5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e"/>
                </a:solidFill>
                <a:latin typeface="Tahoma"/>
              </a:rPr>
              <a:t>+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29"/>
          <p:cNvSpPr/>
          <p:nvPr/>
        </p:nvSpPr>
        <p:spPr>
          <a:xfrm>
            <a:off x="179280" y="1197000"/>
            <a:ext cx="5342040" cy="1913040"/>
          </a:xfrm>
          <a:prstGeom prst="cloudCallout">
            <a:avLst>
              <a:gd name="adj1" fmla="val 43578"/>
              <a:gd name="adj2" fmla="val 71912"/>
            </a:avLst>
          </a:prstGeom>
          <a:solidFill>
            <a:srgbClr val="0a0a87"/>
          </a:solidFill>
          <a:ln w="9360">
            <a:solidFill>
              <a:srgbClr val="ffff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e"/>
                </a:solidFill>
                <a:latin typeface="Comic Sans MS"/>
              </a:rPr>
              <a:t>I use place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e"/>
                </a:solidFill>
                <a:latin typeface="Comic Sans MS"/>
              </a:rPr>
              <a:t>“</a:t>
            </a:r>
            <a:r>
              <a:rPr b="0" lang="en-US" sz="1800" spc="-1" strike="noStrike">
                <a:solidFill>
                  <a:srgbClr val="ffffee"/>
                </a:solidFill>
                <a:latin typeface="Comic Sans MS"/>
              </a:rPr>
              <a:t>53 – 20 = 33.  Minus another 9. Split the 9 into 3 and 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e"/>
                </a:solidFill>
                <a:latin typeface="Comic Sans MS"/>
              </a:rPr>
              <a:t>33- 3 = 30 – 6 = 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3924360" y="3213000"/>
            <a:ext cx="2160360" cy="642600"/>
          </a:xfrm>
          <a:prstGeom prst="rect">
            <a:avLst/>
          </a:prstGeom>
          <a:solidFill>
            <a:srgbClr val="9cb3d8"/>
          </a:solidFill>
          <a:ln w="9360">
            <a:solidFill>
              <a:srgbClr val="c3b5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53 – 29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Tempus Sans ITC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me Structu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and Gam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s Maths Taught Differently Now?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Can Parents Help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Times New Roman"/>
              </a:rPr>
              <a:t>Number Strategies </a:t>
            </a:r>
            <a:r>
              <a:rPr b="0" lang="en-NZ" sz="2300" spc="-1" strike="noStrike">
                <a:solidFill>
                  <a:srgbClr val="000000"/>
                </a:solidFill>
                <a:latin typeface="Times New Roman"/>
              </a:rPr>
              <a:t>Additio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There are 47 children in the hall.  28 more children arrive.  How many are in the school hall now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Times New Roman"/>
              </a:rPr>
              <a:t>Solution 47 + 28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How did you work it ou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What happened in your he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Times New Roman"/>
              </a:rPr>
              <a:t>Share your different strategies with the people around yo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Can you think of any other ways to solve the proble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Times New Roman"/>
              </a:rPr>
              <a:t>Make sense of these Strateg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Group 4"/>
          <p:cNvGrpSpPr/>
          <p:nvPr/>
        </p:nvGrpSpPr>
        <p:grpSpPr>
          <a:xfrm>
            <a:off x="0" y="1001880"/>
            <a:ext cx="8839080" cy="5856120"/>
            <a:chOff x="0" y="1001880"/>
            <a:chExt cx="8839080" cy="5856120"/>
          </a:xfrm>
        </p:grpSpPr>
        <p:sp>
          <p:nvSpPr>
            <p:cNvPr id="195" name="AutoShape 5"/>
            <p:cNvSpPr/>
            <p:nvPr/>
          </p:nvSpPr>
          <p:spPr>
            <a:xfrm>
              <a:off x="152280" y="1001880"/>
              <a:ext cx="5486400" cy="2057400"/>
            </a:xfrm>
            <a:prstGeom prst="cloudCallout">
              <a:avLst>
                <a:gd name="adj1" fmla="val 43578"/>
                <a:gd name="adj2" fmla="val 71912"/>
              </a:avLst>
            </a:prstGeom>
            <a:solidFill>
              <a:srgbClr val="0a0a87"/>
            </a:solidFill>
            <a:ln w="9360">
              <a:solidFill>
                <a:srgbClr val="ffff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ee"/>
                  </a:solidFill>
                  <a:latin typeface="Comic Sans MS"/>
                </a:rPr>
                <a:t>“</a:t>
              </a:r>
              <a:r>
                <a:rPr b="0" lang="en-US" sz="1800" spc="-1" strike="noStrike">
                  <a:solidFill>
                    <a:srgbClr val="ffffee"/>
                  </a:solidFill>
                  <a:latin typeface="Comic Sans MS"/>
                </a:rPr>
                <a:t>Four rows of ten is 40 and two rows of ten is 20, so 40 + 20 = 60 with 7 and 8 left !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ee"/>
                  </a:solidFill>
                  <a:latin typeface="Comic Sans MS"/>
                </a:rPr>
                <a:t>double 7 = 14 plus 1 =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ee"/>
                  </a:solidFill>
                  <a:latin typeface="Comic Sans MS"/>
                </a:rPr>
                <a:t>so there are 75 children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AutoShape 6"/>
            <p:cNvSpPr/>
            <p:nvPr/>
          </p:nvSpPr>
          <p:spPr>
            <a:xfrm>
              <a:off x="5680080" y="1306440"/>
              <a:ext cx="3124080" cy="1725840"/>
            </a:xfrm>
            <a:prstGeom prst="wedgeEllipseCallout">
              <a:avLst>
                <a:gd name="adj1" fmla="val -57314"/>
                <a:gd name="adj2" fmla="val 84222"/>
              </a:avLst>
            </a:prstGeom>
            <a:solidFill>
              <a:srgbClr val="0a0a87"/>
            </a:solidFill>
            <a:ln w="9360">
              <a:solidFill>
                <a:srgbClr val="ffff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ee"/>
                  </a:solidFill>
                  <a:latin typeface="Comic Sans MS"/>
                </a:rPr>
                <a:t>“</a:t>
              </a:r>
              <a:r>
                <a:rPr b="0" lang="en-US" sz="1800" spc="-1" strike="noStrike">
                  <a:solidFill>
                    <a:srgbClr val="ffffee"/>
                  </a:solidFill>
                  <a:latin typeface="Comic Sans MS"/>
                </a:rPr>
                <a:t>I use tidy number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ee"/>
                  </a:solidFill>
                  <a:latin typeface="Comic Sans MS"/>
                </a:rPr>
                <a:t>50 + 28 = 7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ee"/>
                  </a:solidFill>
                  <a:latin typeface="Comic Sans MS"/>
                </a:rPr>
                <a:t>78 - 3 = 75”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AutoShape 7"/>
            <p:cNvSpPr/>
            <p:nvPr/>
          </p:nvSpPr>
          <p:spPr>
            <a:xfrm>
              <a:off x="1066680" y="5216760"/>
              <a:ext cx="4800600" cy="1371600"/>
            </a:xfrm>
            <a:prstGeom prst="wedgeEllipseCallout">
              <a:avLst>
                <a:gd name="adj1" fmla="val 43486"/>
                <a:gd name="adj2" fmla="val -119444"/>
              </a:avLst>
            </a:prstGeom>
            <a:solidFill>
              <a:srgbClr val="0a0a87"/>
            </a:solidFill>
            <a:ln w="9360">
              <a:solidFill>
                <a:srgbClr val="ffff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ee"/>
                  </a:solidFill>
                  <a:latin typeface="Comic Sans MS"/>
                </a:rPr>
                <a:t>“</a:t>
              </a:r>
              <a:r>
                <a:rPr b="0" lang="en-US" sz="1800" spc="-1" strike="noStrike">
                  <a:solidFill>
                    <a:srgbClr val="ffffee"/>
                  </a:solidFill>
                  <a:latin typeface="Comic Sans MS"/>
                </a:rPr>
                <a:t>I know that 50 plus 30 is 80 and 3 plus 2 is 5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ee"/>
                  </a:solidFill>
                  <a:latin typeface="Comic Sans MS"/>
                </a:rPr>
                <a:t> </a:t>
              </a:r>
              <a:r>
                <a:rPr b="0" lang="en-US" sz="1800" spc="-1" strike="noStrike">
                  <a:solidFill>
                    <a:srgbClr val="ffffee"/>
                  </a:solidFill>
                  <a:latin typeface="Comic Sans MS"/>
                </a:rPr>
                <a:t>so 80 - 5 is 75 “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ee"/>
                  </a:solidFill>
                  <a:latin typeface="Comic Sans MS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AutoShape 8"/>
            <p:cNvSpPr/>
            <p:nvPr/>
          </p:nvSpPr>
          <p:spPr>
            <a:xfrm>
              <a:off x="5638680" y="3200400"/>
              <a:ext cx="3200400" cy="3657600"/>
            </a:xfrm>
            <a:prstGeom prst="cloudCallout">
              <a:avLst>
                <a:gd name="adj1" fmla="val -67611"/>
                <a:gd name="adj2" fmla="val -34546"/>
              </a:avLst>
            </a:prstGeom>
            <a:solidFill>
              <a:srgbClr val="0a0a87"/>
            </a:solidFill>
            <a:ln w="9360">
              <a:solidFill>
                <a:srgbClr val="ffff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ee"/>
                  </a:solidFill>
                  <a:latin typeface="Comic Sans MS"/>
                </a:rPr>
                <a:t>“</a:t>
              </a:r>
              <a:r>
                <a:rPr b="0" lang="en-US" sz="1800" spc="-1" strike="noStrike">
                  <a:solidFill>
                    <a:srgbClr val="ffffee"/>
                  </a:solidFill>
                  <a:latin typeface="Comic Sans MS"/>
                </a:rPr>
                <a:t>I think of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ee"/>
                  </a:solidFill>
                  <a:latin typeface="Comic Sans MS"/>
                </a:rPr>
                <a:t> </a:t>
              </a:r>
              <a:r>
                <a:rPr b="0" lang="en-US" sz="1800" spc="-1" strike="noStrike">
                  <a:solidFill>
                    <a:srgbClr val="ffffee"/>
                  </a:solidFill>
                  <a:latin typeface="Comic Sans MS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ffffee"/>
                  </a:solidFill>
                  <a:uFillTx/>
                  <a:latin typeface="Comic Sans MS"/>
                </a:rPr>
                <a:t>+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ee"/>
                  </a:solidFill>
                  <a:latin typeface="Comic Sans MS"/>
                </a:rPr>
                <a:t>7 plus 8 is 15, so that’s 5 and carry one.  4 plus 2 is 6 plus one more ten is 7. so the answer is 75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Group 9"/>
            <p:cNvGrpSpPr/>
            <p:nvPr/>
          </p:nvGrpSpPr>
          <p:grpSpPr>
            <a:xfrm>
              <a:off x="0" y="3328920"/>
              <a:ext cx="4571640" cy="1904760"/>
              <a:chOff x="0" y="3328920"/>
              <a:chExt cx="4571640" cy="19047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0" y="3328920"/>
                <a:ext cx="4571640" cy="1904760"/>
                <a:chOff x="0" y="3328920"/>
                <a:chExt cx="4571640" cy="1904760"/>
              </a:xfrm>
            </p:grpSpPr>
            <p:sp>
              <p:nvSpPr>
                <p:cNvPr id="201" name="AutoShape 11"/>
                <p:cNvSpPr/>
                <p:nvPr/>
              </p:nvSpPr>
              <p:spPr>
                <a:xfrm>
                  <a:off x="0" y="3328920"/>
                  <a:ext cx="4571640" cy="1904760"/>
                </a:xfrm>
                <a:prstGeom prst="cloudCallout">
                  <a:avLst>
                    <a:gd name="adj1" fmla="val 56398"/>
                    <a:gd name="adj2" fmla="val -48097"/>
                  </a:avLst>
                </a:prstGeom>
                <a:solidFill>
                  <a:srgbClr val="0a0a87"/>
                </a:solidFill>
                <a:ln w="9360">
                  <a:solidFill>
                    <a:srgbClr val="ffffe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89600" y="4488480"/>
                  <a:ext cx="3592080" cy="0"/>
                </a:xfrm>
                <a:prstGeom prst="line">
                  <a:avLst/>
                </a:prstGeom>
                <a:ln w="9360">
                  <a:solidFill>
                    <a:srgbClr val="ffffe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Rectangle 13"/>
                <p:cNvSpPr/>
                <p:nvPr/>
              </p:nvSpPr>
              <p:spPr>
                <a:xfrm>
                  <a:off x="600120" y="3653280"/>
                  <a:ext cx="3233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ee"/>
                      </a:solidFill>
                      <a:latin typeface="Comic Sans MS"/>
                    </a:rPr>
                    <a:t>“</a:t>
                  </a:r>
                  <a:r>
                    <a:rPr b="0" lang="en-US" sz="1800" spc="-1" strike="noStrike">
                      <a:solidFill>
                        <a:srgbClr val="ffffee"/>
                      </a:solidFill>
                      <a:latin typeface="Comic Sans MS"/>
                    </a:rPr>
                    <a:t>I use an open number line!”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4" name="Text Box 14"/>
              <p:cNvSpPr/>
              <p:nvPr/>
            </p:nvSpPr>
            <p:spPr>
              <a:xfrm>
                <a:off x="507960" y="4444920"/>
                <a:ext cx="380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ee"/>
                    </a:solidFill>
                    <a:latin typeface="Tahoma"/>
                  </a:rPr>
                  <a:t>4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Text Box 15"/>
              <p:cNvSpPr/>
              <p:nvPr/>
            </p:nvSpPr>
            <p:spPr>
              <a:xfrm>
                <a:off x="3267000" y="447984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ee"/>
                    </a:solidFill>
                    <a:latin typeface="Tahoma"/>
                  </a:rPr>
                  <a:t>7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Group 16"/>
            <p:cNvGrpSpPr/>
            <p:nvPr/>
          </p:nvGrpSpPr>
          <p:grpSpPr>
            <a:xfrm>
              <a:off x="1892160" y="3881520"/>
              <a:ext cx="698760" cy="596880"/>
              <a:chOff x="1892160" y="3881520"/>
              <a:chExt cx="698760" cy="596880"/>
            </a:xfrm>
          </p:grpSpPr>
          <p:sp>
            <p:nvSpPr>
              <p:cNvPr id="207" name="Freeform 17"/>
              <p:cNvSpPr/>
              <p:nvPr/>
            </p:nvSpPr>
            <p:spPr>
              <a:xfrm>
                <a:off x="1892160" y="4173480"/>
                <a:ext cx="622440" cy="304920"/>
              </a:xfrm>
              <a:custGeom>
                <a:avLst/>
                <a:gdLst/>
                <a:ahLst/>
                <a:rect l="l" t="t" r="r" b="b"/>
                <a:pathLst>
                  <a:path w="798" h="329">
                    <a:moveTo>
                      <a:pt x="0" y="320"/>
                    </a:moveTo>
                    <a:cubicBezTo>
                      <a:pt x="7" y="291"/>
                      <a:pt x="27" y="194"/>
                      <a:pt x="56" y="168"/>
                    </a:cubicBezTo>
                    <a:cubicBezTo>
                      <a:pt x="181" y="47"/>
                      <a:pt x="297" y="30"/>
                      <a:pt x="464" y="0"/>
                    </a:cubicBezTo>
                    <a:cubicBezTo>
                      <a:pt x="563" y="14"/>
                      <a:pt x="681" y="74"/>
                      <a:pt x="728" y="168"/>
                    </a:cubicBezTo>
                    <a:cubicBezTo>
                      <a:pt x="733" y="195"/>
                      <a:pt x="748" y="280"/>
                      <a:pt x="760" y="304"/>
                    </a:cubicBezTo>
                    <a:cubicBezTo>
                      <a:pt x="772" y="329"/>
                      <a:pt x="798" y="328"/>
                      <a:pt x="776" y="328"/>
                    </a:cubicBezTo>
                  </a:path>
                </a:pathLst>
              </a:custGeom>
              <a:noFill/>
              <a:ln w="9360">
                <a:solidFill>
                  <a:srgbClr val="ffffe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Text Box 18"/>
              <p:cNvSpPr/>
              <p:nvPr/>
            </p:nvSpPr>
            <p:spPr>
              <a:xfrm>
                <a:off x="2057400" y="3881520"/>
                <a:ext cx="5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ee"/>
                    </a:solidFill>
                    <a:latin typeface="Tahoma"/>
                  </a:rPr>
                  <a:t>+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Group 19"/>
            <p:cNvGrpSpPr/>
            <p:nvPr/>
          </p:nvGrpSpPr>
          <p:grpSpPr>
            <a:xfrm>
              <a:off x="609480" y="4084560"/>
              <a:ext cx="1308240" cy="406440"/>
              <a:chOff x="609480" y="4084560"/>
              <a:chExt cx="1308240" cy="406440"/>
            </a:xfrm>
          </p:grpSpPr>
          <p:sp>
            <p:nvSpPr>
              <p:cNvPr id="210" name="Freeform 20"/>
              <p:cNvSpPr/>
              <p:nvPr/>
            </p:nvSpPr>
            <p:spPr>
              <a:xfrm>
                <a:off x="609480" y="4084560"/>
                <a:ext cx="1308240" cy="406440"/>
              </a:xfrm>
              <a:custGeom>
                <a:avLst/>
                <a:gdLst/>
                <a:ahLst/>
                <a:rect l="l" t="t" r="r" b="b"/>
                <a:pathLst>
                  <a:path w="824" h="256">
                    <a:moveTo>
                      <a:pt x="0" y="256"/>
                    </a:moveTo>
                    <a:cubicBezTo>
                      <a:pt x="16" y="218"/>
                      <a:pt x="32" y="181"/>
                      <a:pt x="48" y="144"/>
                    </a:cubicBezTo>
                    <a:cubicBezTo>
                      <a:pt x="54" y="129"/>
                      <a:pt x="57" y="105"/>
                      <a:pt x="72" y="96"/>
                    </a:cubicBezTo>
                    <a:cubicBezTo>
                      <a:pt x="81" y="89"/>
                      <a:pt x="93" y="91"/>
                      <a:pt x="104" y="88"/>
                    </a:cubicBezTo>
                    <a:cubicBezTo>
                      <a:pt x="240" y="38"/>
                      <a:pt x="327" y="10"/>
                      <a:pt x="472" y="0"/>
                    </a:cubicBezTo>
                    <a:cubicBezTo>
                      <a:pt x="554" y="9"/>
                      <a:pt x="625" y="28"/>
                      <a:pt x="704" y="56"/>
                    </a:cubicBezTo>
                    <a:cubicBezTo>
                      <a:pt x="726" y="63"/>
                      <a:pt x="768" y="88"/>
                      <a:pt x="768" y="88"/>
                    </a:cubicBezTo>
                    <a:cubicBezTo>
                      <a:pt x="773" y="96"/>
                      <a:pt x="780" y="103"/>
                      <a:pt x="784" y="112"/>
                    </a:cubicBezTo>
                    <a:cubicBezTo>
                      <a:pt x="790" y="127"/>
                      <a:pt x="800" y="160"/>
                      <a:pt x="800" y="160"/>
                    </a:cubicBezTo>
                    <a:cubicBezTo>
                      <a:pt x="808" y="253"/>
                      <a:pt x="781" y="234"/>
                      <a:pt x="824" y="256"/>
                    </a:cubicBezTo>
                  </a:path>
                </a:pathLst>
              </a:custGeom>
              <a:noFill/>
              <a:ln w="9360">
                <a:solidFill>
                  <a:srgbClr val="ffffe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Text Box 21"/>
              <p:cNvSpPr/>
              <p:nvPr/>
            </p:nvSpPr>
            <p:spPr>
              <a:xfrm>
                <a:off x="1001880" y="4119480"/>
                <a:ext cx="60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ee"/>
                    </a:solidFill>
                    <a:latin typeface="Tahoma"/>
                  </a:rPr>
                  <a:t>+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Group 22"/>
            <p:cNvGrpSpPr/>
            <p:nvPr/>
          </p:nvGrpSpPr>
          <p:grpSpPr>
            <a:xfrm>
              <a:off x="2514600" y="4089600"/>
              <a:ext cx="1066680" cy="409320"/>
              <a:chOff x="2514600" y="4089600"/>
              <a:chExt cx="1066680" cy="409320"/>
            </a:xfrm>
          </p:grpSpPr>
          <p:sp>
            <p:nvSpPr>
              <p:cNvPr id="213" name="Freeform 23"/>
              <p:cNvSpPr/>
              <p:nvPr/>
            </p:nvSpPr>
            <p:spPr>
              <a:xfrm>
                <a:off x="2514600" y="4130640"/>
                <a:ext cx="1025640" cy="368280"/>
              </a:xfrm>
              <a:custGeom>
                <a:avLst/>
                <a:gdLst/>
                <a:ahLst/>
                <a:rect l="l" t="t" r="r" b="b"/>
                <a:pathLst>
                  <a:path w="798" h="329">
                    <a:moveTo>
                      <a:pt x="0" y="320"/>
                    </a:moveTo>
                    <a:cubicBezTo>
                      <a:pt x="7" y="291"/>
                      <a:pt x="27" y="194"/>
                      <a:pt x="56" y="168"/>
                    </a:cubicBezTo>
                    <a:cubicBezTo>
                      <a:pt x="181" y="47"/>
                      <a:pt x="297" y="30"/>
                      <a:pt x="464" y="0"/>
                    </a:cubicBezTo>
                    <a:cubicBezTo>
                      <a:pt x="563" y="14"/>
                      <a:pt x="681" y="74"/>
                      <a:pt x="728" y="168"/>
                    </a:cubicBezTo>
                    <a:cubicBezTo>
                      <a:pt x="733" y="195"/>
                      <a:pt x="748" y="280"/>
                      <a:pt x="760" y="304"/>
                    </a:cubicBezTo>
                    <a:cubicBezTo>
                      <a:pt x="772" y="329"/>
                      <a:pt x="798" y="328"/>
                      <a:pt x="776" y="328"/>
                    </a:cubicBezTo>
                  </a:path>
                </a:pathLst>
              </a:custGeom>
              <a:noFill/>
              <a:ln w="9360">
                <a:solidFill>
                  <a:srgbClr val="ffffe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Text Box 24"/>
              <p:cNvSpPr/>
              <p:nvPr/>
            </p:nvSpPr>
            <p:spPr>
              <a:xfrm>
                <a:off x="2906640" y="408960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ee"/>
                    </a:solidFill>
                    <a:latin typeface="Tahoma"/>
                  </a:rPr>
                  <a:t>+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5" name="Text Box 25"/>
          <p:cNvSpPr/>
          <p:nvPr/>
        </p:nvSpPr>
        <p:spPr>
          <a:xfrm>
            <a:off x="3924360" y="3213000"/>
            <a:ext cx="2160360" cy="642600"/>
          </a:xfrm>
          <a:prstGeom prst="rect">
            <a:avLst/>
          </a:prstGeom>
          <a:solidFill>
            <a:srgbClr val="9cb3d8"/>
          </a:solidFill>
          <a:ln w="9360">
            <a:solidFill>
              <a:srgbClr val="c3b5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47 + 28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Times New Roman"/>
              </a:rPr>
              <a:t>Number Strategies </a:t>
            </a:r>
            <a:r>
              <a:rPr b="0" lang="en-NZ" sz="23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46880" cy="250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re are 4 packets of biscuits wi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4 cookies in each pack.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many cookies are th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togethe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Times New Roman"/>
              </a:rPr>
              <a:t>Solution 4 x 24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How did you work it ou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What happened in your hea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Times New Roman"/>
              </a:rPr>
              <a:t>Share your different strategies with the people around yo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How else could this problem be solv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Times New Roman"/>
              </a:rPr>
              <a:t>Make sense of these Strategi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4"/>
          <p:cNvSpPr/>
          <p:nvPr/>
        </p:nvSpPr>
        <p:spPr>
          <a:xfrm>
            <a:off x="152280" y="1001880"/>
            <a:ext cx="5486400" cy="2057400"/>
          </a:xfrm>
          <a:prstGeom prst="cloudCallout">
            <a:avLst>
              <a:gd name="adj1" fmla="val 43578"/>
              <a:gd name="adj2" fmla="val 71912"/>
            </a:avLst>
          </a:prstGeom>
          <a:solidFill>
            <a:srgbClr val="0a0a87"/>
          </a:solidFill>
          <a:ln w="9360">
            <a:solidFill>
              <a:srgbClr val="ffff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5"/>
          <p:cNvSpPr/>
          <p:nvPr/>
        </p:nvSpPr>
        <p:spPr>
          <a:xfrm>
            <a:off x="5680080" y="1306440"/>
            <a:ext cx="3124080" cy="1725840"/>
          </a:xfrm>
          <a:prstGeom prst="wedgeEllipseCallout">
            <a:avLst>
              <a:gd name="adj1" fmla="val -57314"/>
              <a:gd name="adj2" fmla="val 84222"/>
            </a:avLst>
          </a:prstGeom>
          <a:solidFill>
            <a:srgbClr val="0a0a87"/>
          </a:solidFill>
          <a:ln w="9360">
            <a:solidFill>
              <a:srgbClr val="ffff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ee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ee"/>
                </a:solidFill>
                <a:latin typeface="Arial"/>
              </a:rPr>
              <a:t>I used place value 4 x 20 = 8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ee"/>
                </a:solidFill>
                <a:latin typeface="Arial"/>
              </a:rPr>
              <a:t>And 4 x 4 = 1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ee"/>
                </a:solidFill>
                <a:latin typeface="Arial"/>
              </a:rPr>
              <a:t>80 + 16 = 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6"/>
          <p:cNvSpPr/>
          <p:nvPr/>
        </p:nvSpPr>
        <p:spPr>
          <a:xfrm>
            <a:off x="1066680" y="5216400"/>
            <a:ext cx="4800600" cy="1371600"/>
          </a:xfrm>
          <a:prstGeom prst="wedgeEllipseCallout">
            <a:avLst>
              <a:gd name="adj1" fmla="val 43486"/>
              <a:gd name="adj2" fmla="val -119444"/>
            </a:avLst>
          </a:prstGeom>
          <a:solidFill>
            <a:srgbClr val="0a0a87"/>
          </a:solidFill>
          <a:ln w="9360">
            <a:solidFill>
              <a:srgbClr val="ffff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e"/>
                </a:solidFill>
                <a:latin typeface="Comic Sans MS"/>
              </a:rPr>
              <a:t>I used doubling and halv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e"/>
                </a:solidFill>
                <a:latin typeface="Comic Sans MS"/>
              </a:rPr>
              <a:t>Double 4 = 8, half 24 = 1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e"/>
                </a:solidFill>
                <a:latin typeface="Comic Sans MS"/>
              </a:rPr>
              <a:t>8 x 12 = 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e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7"/>
          <p:cNvSpPr/>
          <p:nvPr/>
        </p:nvSpPr>
        <p:spPr>
          <a:xfrm>
            <a:off x="5638680" y="3200400"/>
            <a:ext cx="3200400" cy="3657600"/>
          </a:xfrm>
          <a:prstGeom prst="cloudCallout">
            <a:avLst>
              <a:gd name="adj1" fmla="val -67611"/>
              <a:gd name="adj2" fmla="val -34546"/>
            </a:avLst>
          </a:prstGeom>
          <a:solidFill>
            <a:srgbClr val="0a0a87"/>
          </a:solidFill>
          <a:ln w="9360">
            <a:solidFill>
              <a:srgbClr val="ffff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e"/>
                </a:solidFill>
                <a:latin typeface="Comic Sans MS"/>
              </a:rPr>
              <a:t>“</a:t>
            </a:r>
            <a:r>
              <a:rPr b="0" lang="en-US" sz="1800" spc="-1" strike="noStrike">
                <a:solidFill>
                  <a:srgbClr val="ffffee"/>
                </a:solidFill>
                <a:latin typeface="Comic Sans MS"/>
              </a:rPr>
              <a:t>I think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e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ee"/>
                </a:solidFill>
                <a:latin typeface="Comic Sans MS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ee"/>
                </a:solidFill>
                <a:uFillTx/>
                <a:latin typeface="Comic Sans MS"/>
              </a:rPr>
              <a:t> </a:t>
            </a:r>
            <a:r>
              <a:rPr b="0" lang="en-US" sz="1800" spc="-1" strike="noStrike" u="sng">
                <a:solidFill>
                  <a:srgbClr val="ffffee"/>
                </a:solidFill>
                <a:uFillTx/>
                <a:latin typeface="Comic Sans MS"/>
              </a:rPr>
              <a:t>X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e"/>
                </a:solidFill>
                <a:latin typeface="Comic Sans MS"/>
              </a:rPr>
              <a:t>4 x 4 = 16.  Put down the 6 and carry the 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e"/>
                </a:solidFill>
                <a:latin typeface="Comic Sans MS"/>
              </a:rPr>
              <a:t>4 x 2 = 80 + another ten = 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e"/>
                </a:solidFill>
                <a:latin typeface="Comic Sans MS"/>
              </a:rPr>
              <a:t>90+6 = 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8"/>
          <p:cNvSpPr/>
          <p:nvPr/>
        </p:nvSpPr>
        <p:spPr>
          <a:xfrm>
            <a:off x="3924360" y="3213000"/>
            <a:ext cx="2160360" cy="642600"/>
          </a:xfrm>
          <a:prstGeom prst="rect">
            <a:avLst/>
          </a:prstGeom>
          <a:solidFill>
            <a:srgbClr val="9cb3d8"/>
          </a:solidFill>
          <a:ln w="9360">
            <a:solidFill>
              <a:srgbClr val="c3b5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4 x 24 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684360" y="14842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ee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ee"/>
                </a:solidFill>
                <a:latin typeface="Arial"/>
              </a:rPr>
              <a:t>I use tidy number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ee"/>
                </a:solidFill>
                <a:latin typeface="Arial"/>
              </a:rPr>
              <a:t>I know 4 x 25 = 10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ee"/>
                </a:solidFill>
                <a:latin typeface="Arial"/>
              </a:rPr>
              <a:t>100-(1x4) = 9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AutoShape 10"/>
          <p:cNvSpPr/>
          <p:nvPr/>
        </p:nvSpPr>
        <p:spPr>
          <a:xfrm>
            <a:off x="395280" y="3213000"/>
            <a:ext cx="3672000" cy="1725840"/>
          </a:xfrm>
          <a:prstGeom prst="wedgeEllipseCallout">
            <a:avLst>
              <a:gd name="adj1" fmla="val 93578"/>
              <a:gd name="adj2" fmla="val -13754"/>
            </a:avLst>
          </a:prstGeom>
          <a:solidFill>
            <a:srgbClr val="0a0a87"/>
          </a:solidFill>
          <a:ln w="9360">
            <a:solidFill>
              <a:srgbClr val="ffff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ee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ee"/>
                </a:solidFill>
                <a:latin typeface="Arial"/>
              </a:rPr>
              <a:t>I know 24 + 24 = 4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ee"/>
                </a:solidFill>
                <a:latin typeface="Arial"/>
              </a:rPr>
              <a:t>48 + 48 = 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55640" y="112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Tempus Sans ITC"/>
              </a:rPr>
              <a:t>Numeracy Project Go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o be numerate is to have the ability and inclination to use mathematics effectively – at home, at work and in the community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ublished in Curriculum Update 45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Tempus Sans ITC"/>
              </a:rPr>
              <a:t>Numeracy St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Emerg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One to One Coun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Count from one on Materia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Count from one by Ima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Advanced Coun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f06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3f06a6"/>
                </a:solidFill>
                <a:latin typeface="Times New Roman"/>
              </a:rPr>
              <a:t>Early Additive Part-Wh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f06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3f06a6"/>
                </a:solidFill>
                <a:latin typeface="Times New Roman"/>
              </a:rPr>
              <a:t>Advanced Additive Part-Wh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f06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3f06a6"/>
                </a:solidFill>
                <a:latin typeface="Times New Roman"/>
              </a:rPr>
              <a:t>Advanced Multiplic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f06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3f06a6"/>
                </a:solidFill>
                <a:latin typeface="Times New Roman"/>
              </a:rPr>
              <a:t>Advanced Propor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AutoShape 4"/>
          <p:cNvSpPr/>
          <p:nvPr/>
        </p:nvSpPr>
        <p:spPr>
          <a:xfrm>
            <a:off x="5508720" y="1700280"/>
            <a:ext cx="863640" cy="2087640"/>
          </a:xfrm>
          <a:custGeom>
            <a:avLst/>
            <a:gdLst>
              <a:gd name="textAreaLeft" fmla="*/ 0 w 863640"/>
              <a:gd name="textAreaRight" fmla="*/ 311760 w 86364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AutoShape 5"/>
          <p:cNvSpPr/>
          <p:nvPr/>
        </p:nvSpPr>
        <p:spPr>
          <a:xfrm>
            <a:off x="5508720" y="3933720"/>
            <a:ext cx="863640" cy="2087640"/>
          </a:xfrm>
          <a:custGeom>
            <a:avLst/>
            <a:gdLst>
              <a:gd name="textAreaLeft" fmla="*/ 0 w 863640"/>
              <a:gd name="textAreaRight" fmla="*/ 311760 w 86364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6"/>
          <p:cNvSpPr/>
          <p:nvPr/>
        </p:nvSpPr>
        <p:spPr>
          <a:xfrm>
            <a:off x="6659640" y="242100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Counting 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Strate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6659640" y="472428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Non Counting Strate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Tempus Sans ITC"/>
              </a:rPr>
              <a:t>Maths Ga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Monopo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Yahtz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Snakes and Lad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Card ga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Bin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Connect F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Blackjack (without the gamble element of course </a:t>
            </a:r>
            <a:r>
              <a:rPr b="0" lang="en-NZ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Battleshi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Jen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Da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800" spc="-1" strike="noStrike">
                <a:solidFill>
                  <a:srgbClr val="000000"/>
                </a:solidFill>
                <a:latin typeface="Times New Roman"/>
              </a:rPr>
              <a:t>Any game that involves numbers, points, dice, logic, strategising to win e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Who knew maths could be so much fun!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4360" y="609480"/>
            <a:ext cx="77738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7200" spc="-1" strike="noStrike">
                <a:solidFill>
                  <a:srgbClr val="000000"/>
                </a:solidFill>
                <a:latin typeface="Tempus Sans ITC"/>
              </a:rPr>
              <a:t>How is maths taught differently now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Tempus Sans ITC"/>
              </a:rPr>
              <a:t>Numeracy Program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72400" cy="303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Early Numeracy Programme (EN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Years 1 – 3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Advanced Numeracy Programme (AN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Years 4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Tempus Sans ITC"/>
              </a:rPr>
              <a:t>Assessing what children kn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Assess - where each child is at through oral interviewing and ques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Group according to a child’s strategy stage using the New Zealand Number Frame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A useful tool - I </a:t>
            </a:r>
            <a:r>
              <a:rPr b="0" lang="en-NZ" sz="3200" spc="-1" strike="noStrike" u="sng">
                <a:solidFill>
                  <a:srgbClr val="a9a460"/>
                </a:solidFill>
                <a:uFillTx/>
                <a:latin typeface="Times New Roman"/>
                <a:hlinkClick r:id="rId1"/>
              </a:rPr>
              <a:t>CAN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 She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Encourage children to self assess (reflect) know and own their next learning ste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Tempus Sans ITC"/>
              </a:rPr>
              <a:t>Teac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94920" y="2276280"/>
            <a:ext cx="504180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Using materials (equip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Thinking about what would 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      happen on the mater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Working only with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Group 4"/>
          <p:cNvGrpSpPr/>
          <p:nvPr/>
        </p:nvGrpSpPr>
        <p:grpSpPr>
          <a:xfrm>
            <a:off x="4932360" y="1231920"/>
            <a:ext cx="3957840" cy="4479840"/>
            <a:chOff x="4932360" y="1231920"/>
            <a:chExt cx="3957840" cy="4479840"/>
          </a:xfrm>
        </p:grpSpPr>
        <p:grpSp>
          <p:nvGrpSpPr>
            <p:cNvPr id="245" name="Group 5"/>
            <p:cNvGrpSpPr/>
            <p:nvPr/>
          </p:nvGrpSpPr>
          <p:grpSpPr>
            <a:xfrm>
              <a:off x="4932360" y="1969920"/>
              <a:ext cx="3024360" cy="3741840"/>
              <a:chOff x="4932360" y="1969920"/>
              <a:chExt cx="3024360" cy="3741840"/>
            </a:xfrm>
          </p:grpSpPr>
          <p:sp>
            <p:nvSpPr>
              <p:cNvPr id="246" name="Oval 6"/>
              <p:cNvSpPr/>
              <p:nvPr/>
            </p:nvSpPr>
            <p:spPr>
              <a:xfrm>
                <a:off x="4932360" y="1969920"/>
                <a:ext cx="3024360" cy="3741840"/>
              </a:xfrm>
              <a:prstGeom prst="ellipse">
                <a:avLst/>
              </a:prstGeom>
              <a:solidFill>
                <a:srgbClr val="28ff19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Text Box 7"/>
              <p:cNvSpPr/>
              <p:nvPr/>
            </p:nvSpPr>
            <p:spPr>
              <a:xfrm>
                <a:off x="5326200" y="4842000"/>
                <a:ext cx="24192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Working only with number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8" name="AutoShape 8"/>
            <p:cNvSpPr/>
            <p:nvPr/>
          </p:nvSpPr>
          <p:spPr>
            <a:xfrm flipH="1" rot="4865400">
              <a:off x="5580720" y="2591640"/>
              <a:ext cx="4241880" cy="1740240"/>
            </a:xfrm>
            <a:custGeom>
              <a:avLst/>
              <a:gdLst>
                <a:gd name="textAreaLeft" fmla="*/ 926280 w 4241880"/>
                <a:gd name="textAreaRight" fmla="*/ 3125160 w 4241880"/>
                <a:gd name="textAreaTop" fmla="*/ 232920 h 1740240"/>
                <a:gd name="textAreaBottom" fmla="*/ 1507320 h 1740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9437" hR="21600" stAng="10800000" swAng="5400000"/>
                  <a:lnTo>
                    <a:pt x="11198" y="0"/>
                  </a:lnTo>
                  <a:arcTo wR="9437" hR="21600" stAng="-5400000" swAng="3456840"/>
                  <a:lnTo>
                    <a:pt x="21257" y="15832"/>
                  </a:lnTo>
                  <a:lnTo>
                    <a:pt x="19754" y="21600"/>
                  </a:lnTo>
                  <a:lnTo>
                    <a:pt x="17564" y="15832"/>
                  </a:lnTo>
                  <a:lnTo>
                    <a:pt x="18530" y="15832"/>
                  </a:lnTo>
                  <a:arcTo wR="9437" hR="21600" stAng="-1943160" swAng="-3316169"/>
                  <a:lnTo>
                    <a:pt x="10317" y="94"/>
                  </a:lnTo>
                  <a:arcTo wR="9437" hR="21600" stAng="-5540671" swAng="-5259329"/>
                  <a:close/>
                </a:path>
                <a:path fill="darkenLess" w="21600" h="21600">
                  <a:moveTo>
                    <a:pt x="0" y="21600"/>
                  </a:moveTo>
                  <a:arcTo wR="9437" hR="21600" stAng="10800000" swAng="5400000"/>
                  <a:lnTo>
                    <a:pt x="9437" y="0"/>
                  </a:lnTo>
                  <a:arcTo wR="9437" hR="21600" stAng="-5400000" swAng="140671"/>
                  <a:lnTo>
                    <a:pt x="10317" y="94"/>
                  </a:lnTo>
                  <a:arcTo wR="9437" hR="21600" stAng="-5540671" swAng="-5259329"/>
                  <a:close/>
                </a:path>
              </a:pathLst>
            </a:custGeom>
            <a:solidFill>
              <a:srgbClr val="ffffee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9" name="Group 9"/>
            <p:cNvGrpSpPr/>
            <p:nvPr/>
          </p:nvGrpSpPr>
          <p:grpSpPr>
            <a:xfrm>
              <a:off x="5354640" y="1990800"/>
              <a:ext cx="2200320" cy="2800440"/>
              <a:chOff x="5354640" y="1990800"/>
              <a:chExt cx="2200320" cy="2800440"/>
            </a:xfrm>
          </p:grpSpPr>
          <p:sp>
            <p:nvSpPr>
              <p:cNvPr id="250" name="Oval 10"/>
              <p:cNvSpPr/>
              <p:nvPr/>
            </p:nvSpPr>
            <p:spPr>
              <a:xfrm>
                <a:off x="5354640" y="1990800"/>
                <a:ext cx="2200320" cy="2800440"/>
              </a:xfrm>
              <a:prstGeom prst="ellipse">
                <a:avLst/>
              </a:prstGeom>
              <a:solidFill>
                <a:srgbClr val="ff0c21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Text Box 11"/>
              <p:cNvSpPr/>
              <p:nvPr/>
            </p:nvSpPr>
            <p:spPr>
              <a:xfrm>
                <a:off x="5738760" y="4048200"/>
                <a:ext cx="15130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Imaging</a:t>
                </a:r>
                <a:br>
                  <a:rPr sz="1600"/>
                </a:b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Material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2" name="AutoShape 12"/>
            <p:cNvSpPr/>
            <p:nvPr/>
          </p:nvSpPr>
          <p:spPr>
            <a:xfrm rot="20514000">
              <a:off x="7265880" y="3892320"/>
              <a:ext cx="220680" cy="595080"/>
            </a:xfrm>
            <a:prstGeom prst="upDownArrow">
              <a:avLst>
                <a:gd name="adj1" fmla="val 50000"/>
                <a:gd name="adj2" fmla="val 53682"/>
              </a:avLst>
            </a:prstGeom>
            <a:solidFill>
              <a:srgbClr val="ffffee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" name="Group 13"/>
            <p:cNvGrpSpPr/>
            <p:nvPr/>
          </p:nvGrpSpPr>
          <p:grpSpPr>
            <a:xfrm>
              <a:off x="5630760" y="1969920"/>
              <a:ext cx="1704960" cy="2006640"/>
              <a:chOff x="5630760" y="1969920"/>
              <a:chExt cx="1704960" cy="2006640"/>
            </a:xfrm>
          </p:grpSpPr>
          <p:sp>
            <p:nvSpPr>
              <p:cNvPr id="254" name="Oval 14"/>
              <p:cNvSpPr/>
              <p:nvPr/>
            </p:nvSpPr>
            <p:spPr>
              <a:xfrm>
                <a:off x="5630760" y="1969920"/>
                <a:ext cx="1704960" cy="2006640"/>
              </a:xfrm>
              <a:prstGeom prst="ellipse">
                <a:avLst/>
              </a:prstGeom>
              <a:solidFill>
                <a:srgbClr val="ffef0f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Text Box 15"/>
              <p:cNvSpPr/>
              <p:nvPr/>
            </p:nvSpPr>
            <p:spPr>
              <a:xfrm>
                <a:off x="5874480" y="2817000"/>
                <a:ext cx="1266120" cy="95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Using</a:t>
                </a:r>
                <a:br>
                  <a:rPr sz="1600"/>
                </a:b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Material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6" name="AutoShape 16"/>
            <p:cNvSpPr/>
            <p:nvPr/>
          </p:nvSpPr>
          <p:spPr>
            <a:xfrm rot="20355600">
              <a:off x="6784560" y="3531960"/>
              <a:ext cx="220680" cy="596880"/>
            </a:xfrm>
            <a:prstGeom prst="upDownArrow">
              <a:avLst>
                <a:gd name="adj1" fmla="val 50000"/>
                <a:gd name="adj2" fmla="val 53844"/>
              </a:avLst>
            </a:prstGeom>
            <a:solidFill>
              <a:srgbClr val="ffffee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6000" spc="-1" strike="noStrike">
                <a:solidFill>
                  <a:srgbClr val="000000"/>
                </a:solidFill>
                <a:latin typeface="Tempus Sans ITC"/>
              </a:rPr>
              <a:t>How can parents help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55640" y="270828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600" spc="-1" strike="noStrike">
                <a:solidFill>
                  <a:srgbClr val="000000"/>
                </a:solidFill>
                <a:latin typeface="Times New Roman"/>
              </a:rPr>
              <a:t>Developing a child’s </a:t>
            </a:r>
            <a:r>
              <a:rPr b="1" lang="en-NZ" sz="3600" spc="-1" strike="noStrike" u="sng">
                <a:solidFill>
                  <a:srgbClr val="000000"/>
                </a:solidFill>
                <a:uFillTx/>
                <a:latin typeface="Times New Roman"/>
              </a:rPr>
              <a:t>knowledge</a:t>
            </a:r>
            <a:r>
              <a:rPr b="0" lang="en-NZ" sz="3600" spc="-1" strike="noStrike">
                <a:solidFill>
                  <a:srgbClr val="000000"/>
                </a:solidFill>
                <a:latin typeface="Times New Roman"/>
              </a:rPr>
              <a:t> is the key to their success and development in mathematic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800" spc="-1" strike="noStrike">
                <a:solidFill>
                  <a:srgbClr val="000000"/>
                </a:solidFill>
                <a:latin typeface="Tempus Sans ITC"/>
              </a:rPr>
              <a:t>Knowledge Build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Times New Roman"/>
              </a:rPr>
              <a:t>Counting</a:t>
            </a:r>
            <a:br>
              <a:rPr sz="3600"/>
            </a:b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(cars, shells on beach, pegs, run around the house, how many steps you walk, count backwards, start from different numbers)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Times New Roman"/>
              </a:rPr>
              <a:t>Numbers Before and After</a:t>
            </a:r>
            <a:br>
              <a:rPr sz="3600"/>
            </a:b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(Letter boxes, say a number, use a numberline, use number cards, write a number down, ladder game, keyboard numbers, using di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Times New Roman"/>
              </a:rPr>
              <a:t>Identifying Numbers</a:t>
            </a:r>
            <a:br>
              <a:rPr sz="3600"/>
            </a:b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(Letter boxes, number plates, speed signs, how many km to go, number cards, combine numbe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Times New Roman"/>
              </a:rPr>
              <a:t>Ordering Numbers</a:t>
            </a:r>
            <a:br>
              <a:rPr sz="3600"/>
            </a:b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(Number cards, write some numbers down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800" spc="-1" strike="noStrike">
                <a:solidFill>
                  <a:srgbClr val="000000"/>
                </a:solidFill>
                <a:latin typeface="Tempus Sans ITC"/>
              </a:rPr>
              <a:t>Knowledge Build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50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Times New Roman"/>
              </a:rPr>
              <a:t>Knowing Groups to 10</a:t>
            </a:r>
            <a:br>
              <a:rPr sz="3600"/>
            </a:b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(Using ten frames, using fingers, quinary stick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Times New Roman"/>
              </a:rPr>
              <a:t>Basic Addition Facts to 10</a:t>
            </a:r>
            <a:br>
              <a:rPr sz="3600"/>
            </a:b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(Buttons, ten frames, quinary sticks, finge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Times New Roman"/>
              </a:rPr>
              <a:t>Recalling Doubles</a:t>
            </a:r>
            <a:br>
              <a:rPr sz="4000"/>
            </a:b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(ten frames, fingers, quinary stick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Group 4"/>
          <p:cNvGrpSpPr/>
          <p:nvPr/>
        </p:nvGrpSpPr>
        <p:grpSpPr>
          <a:xfrm>
            <a:off x="755640" y="4724280"/>
            <a:ext cx="4392000" cy="287280"/>
            <a:chOff x="755640" y="4724280"/>
            <a:chExt cx="4392000" cy="287280"/>
          </a:xfrm>
        </p:grpSpPr>
        <p:sp>
          <p:nvSpPr>
            <p:cNvPr id="264" name="Oval 5"/>
            <p:cNvSpPr/>
            <p:nvPr/>
          </p:nvSpPr>
          <p:spPr>
            <a:xfrm>
              <a:off x="1200600" y="4736160"/>
              <a:ext cx="333000" cy="273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Oval 6"/>
            <p:cNvSpPr/>
            <p:nvPr/>
          </p:nvSpPr>
          <p:spPr>
            <a:xfrm>
              <a:off x="1544760" y="4736880"/>
              <a:ext cx="333000" cy="273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Oval 7"/>
            <p:cNvSpPr/>
            <p:nvPr/>
          </p:nvSpPr>
          <p:spPr>
            <a:xfrm>
              <a:off x="1889280" y="4738320"/>
              <a:ext cx="333000" cy="273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Oval 8"/>
            <p:cNvSpPr/>
            <p:nvPr/>
          </p:nvSpPr>
          <p:spPr>
            <a:xfrm>
              <a:off x="2245680" y="4736160"/>
              <a:ext cx="333360" cy="273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Oval 9"/>
            <p:cNvSpPr/>
            <p:nvPr/>
          </p:nvSpPr>
          <p:spPr>
            <a:xfrm>
              <a:off x="2602440" y="4734000"/>
              <a:ext cx="333360" cy="273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" name="Group 10"/>
            <p:cNvGrpSpPr/>
            <p:nvPr/>
          </p:nvGrpSpPr>
          <p:grpSpPr>
            <a:xfrm>
              <a:off x="2959200" y="4724280"/>
              <a:ext cx="1759320" cy="281160"/>
              <a:chOff x="2959200" y="4724280"/>
              <a:chExt cx="1759320" cy="281160"/>
            </a:xfrm>
          </p:grpSpPr>
          <p:sp>
            <p:nvSpPr>
              <p:cNvPr id="270" name="Oval 11"/>
              <p:cNvSpPr/>
              <p:nvPr/>
            </p:nvSpPr>
            <p:spPr>
              <a:xfrm>
                <a:off x="2959200" y="4732200"/>
                <a:ext cx="333000" cy="273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Oval 12"/>
              <p:cNvSpPr/>
              <p:nvPr/>
            </p:nvSpPr>
            <p:spPr>
              <a:xfrm>
                <a:off x="3315600" y="4730400"/>
                <a:ext cx="333000" cy="2728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Oval 13"/>
              <p:cNvSpPr/>
              <p:nvPr/>
            </p:nvSpPr>
            <p:spPr>
              <a:xfrm>
                <a:off x="3672000" y="4728240"/>
                <a:ext cx="333360" cy="273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Oval 14"/>
              <p:cNvSpPr/>
              <p:nvPr/>
            </p:nvSpPr>
            <p:spPr>
              <a:xfrm>
                <a:off x="4028760" y="4726080"/>
                <a:ext cx="333360" cy="273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Oval 15"/>
              <p:cNvSpPr/>
              <p:nvPr/>
            </p:nvSpPr>
            <p:spPr>
              <a:xfrm>
                <a:off x="4385520" y="4724280"/>
                <a:ext cx="333000" cy="273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" name="Line 16"/>
            <p:cNvSpPr/>
            <p:nvPr/>
          </p:nvSpPr>
          <p:spPr>
            <a:xfrm flipH="1">
              <a:off x="755640" y="4872240"/>
              <a:ext cx="444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17"/>
            <p:cNvSpPr/>
            <p:nvPr/>
          </p:nvSpPr>
          <p:spPr>
            <a:xfrm flipH="1">
              <a:off x="4703040" y="4845240"/>
              <a:ext cx="444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Group 18"/>
          <p:cNvGrpSpPr/>
          <p:nvPr/>
        </p:nvGrpSpPr>
        <p:grpSpPr>
          <a:xfrm>
            <a:off x="6804000" y="2565360"/>
            <a:ext cx="936360" cy="2001600"/>
            <a:chOff x="6804000" y="2565360"/>
            <a:chExt cx="936360" cy="2001600"/>
          </a:xfrm>
        </p:grpSpPr>
        <p:grpSp>
          <p:nvGrpSpPr>
            <p:cNvPr id="278" name="Group 19"/>
            <p:cNvGrpSpPr/>
            <p:nvPr/>
          </p:nvGrpSpPr>
          <p:grpSpPr>
            <a:xfrm>
              <a:off x="6804000" y="2565360"/>
              <a:ext cx="936360" cy="2001600"/>
              <a:chOff x="6804000" y="2565360"/>
              <a:chExt cx="936360" cy="2001600"/>
            </a:xfrm>
          </p:grpSpPr>
          <p:grpSp>
            <p:nvGrpSpPr>
              <p:cNvPr id="279" name="Group 20"/>
              <p:cNvGrpSpPr/>
              <p:nvPr/>
            </p:nvGrpSpPr>
            <p:grpSpPr>
              <a:xfrm>
                <a:off x="6804000" y="2565360"/>
                <a:ext cx="936360" cy="402120"/>
                <a:chOff x="6804000" y="2565360"/>
                <a:chExt cx="936360" cy="402120"/>
              </a:xfrm>
            </p:grpSpPr>
            <p:sp>
              <p:nvSpPr>
                <p:cNvPr id="280" name="Rectangle 21"/>
                <p:cNvSpPr/>
                <p:nvPr/>
              </p:nvSpPr>
              <p:spPr>
                <a:xfrm>
                  <a:off x="6804000" y="2565360"/>
                  <a:ext cx="468000" cy="402120"/>
                </a:xfrm>
                <a:prstGeom prst="rect">
                  <a:avLst/>
                </a:prstGeom>
                <a:solidFill>
                  <a:srgbClr val="9cb3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Rectangle 22"/>
                <p:cNvSpPr/>
                <p:nvPr/>
              </p:nvSpPr>
              <p:spPr>
                <a:xfrm>
                  <a:off x="7272000" y="2565360"/>
                  <a:ext cx="468360" cy="402120"/>
                </a:xfrm>
                <a:prstGeom prst="rect">
                  <a:avLst/>
                </a:prstGeom>
                <a:solidFill>
                  <a:srgbClr val="9cb3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Group 23"/>
              <p:cNvGrpSpPr/>
              <p:nvPr/>
            </p:nvGrpSpPr>
            <p:grpSpPr>
              <a:xfrm>
                <a:off x="6804000" y="2967480"/>
                <a:ext cx="936360" cy="401760"/>
                <a:chOff x="6804000" y="2967480"/>
                <a:chExt cx="936360" cy="401760"/>
              </a:xfrm>
            </p:grpSpPr>
            <p:sp>
              <p:nvSpPr>
                <p:cNvPr id="283" name="Rectangle 24"/>
                <p:cNvSpPr/>
                <p:nvPr/>
              </p:nvSpPr>
              <p:spPr>
                <a:xfrm>
                  <a:off x="6804000" y="2967480"/>
                  <a:ext cx="468000" cy="401760"/>
                </a:xfrm>
                <a:prstGeom prst="rect">
                  <a:avLst/>
                </a:prstGeom>
                <a:solidFill>
                  <a:srgbClr val="9cb3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Rectangle 25"/>
                <p:cNvSpPr/>
                <p:nvPr/>
              </p:nvSpPr>
              <p:spPr>
                <a:xfrm>
                  <a:off x="7272000" y="2967480"/>
                  <a:ext cx="468360" cy="401760"/>
                </a:xfrm>
                <a:prstGeom prst="rect">
                  <a:avLst/>
                </a:prstGeom>
                <a:solidFill>
                  <a:srgbClr val="9cb3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Group 26"/>
              <p:cNvGrpSpPr/>
              <p:nvPr/>
            </p:nvGrpSpPr>
            <p:grpSpPr>
              <a:xfrm>
                <a:off x="6804000" y="3370680"/>
                <a:ext cx="936360" cy="402120"/>
                <a:chOff x="6804000" y="3370680"/>
                <a:chExt cx="936360" cy="402120"/>
              </a:xfrm>
            </p:grpSpPr>
            <p:sp>
              <p:nvSpPr>
                <p:cNvPr id="286" name="Rectangle 27"/>
                <p:cNvSpPr/>
                <p:nvPr/>
              </p:nvSpPr>
              <p:spPr>
                <a:xfrm>
                  <a:off x="6804000" y="3370680"/>
                  <a:ext cx="468000" cy="402120"/>
                </a:xfrm>
                <a:prstGeom prst="rect">
                  <a:avLst/>
                </a:prstGeom>
                <a:solidFill>
                  <a:srgbClr val="9cb3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Rectangle 28"/>
                <p:cNvSpPr/>
                <p:nvPr/>
              </p:nvSpPr>
              <p:spPr>
                <a:xfrm>
                  <a:off x="7272000" y="3370680"/>
                  <a:ext cx="468360" cy="402120"/>
                </a:xfrm>
                <a:prstGeom prst="rect">
                  <a:avLst/>
                </a:prstGeom>
                <a:solidFill>
                  <a:srgbClr val="9cb3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Group 29"/>
              <p:cNvGrpSpPr/>
              <p:nvPr/>
            </p:nvGrpSpPr>
            <p:grpSpPr>
              <a:xfrm>
                <a:off x="6804000" y="3773160"/>
                <a:ext cx="936360" cy="402120"/>
                <a:chOff x="6804000" y="3773160"/>
                <a:chExt cx="936360" cy="402120"/>
              </a:xfrm>
            </p:grpSpPr>
            <p:sp>
              <p:nvSpPr>
                <p:cNvPr id="289" name="Rectangle 30"/>
                <p:cNvSpPr/>
                <p:nvPr/>
              </p:nvSpPr>
              <p:spPr>
                <a:xfrm>
                  <a:off x="6804000" y="3773160"/>
                  <a:ext cx="468000" cy="402120"/>
                </a:xfrm>
                <a:prstGeom prst="rect">
                  <a:avLst/>
                </a:prstGeom>
                <a:solidFill>
                  <a:srgbClr val="9cb3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Rectangle 31"/>
                <p:cNvSpPr/>
                <p:nvPr/>
              </p:nvSpPr>
              <p:spPr>
                <a:xfrm>
                  <a:off x="7272000" y="3773160"/>
                  <a:ext cx="468360" cy="402120"/>
                </a:xfrm>
                <a:prstGeom prst="rect">
                  <a:avLst/>
                </a:prstGeom>
                <a:solidFill>
                  <a:srgbClr val="9cb3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Group 32"/>
              <p:cNvGrpSpPr/>
              <p:nvPr/>
            </p:nvGrpSpPr>
            <p:grpSpPr>
              <a:xfrm>
                <a:off x="6804000" y="4164840"/>
                <a:ext cx="936360" cy="402120"/>
                <a:chOff x="6804000" y="4164840"/>
                <a:chExt cx="936360" cy="402120"/>
              </a:xfrm>
            </p:grpSpPr>
            <p:sp>
              <p:nvSpPr>
                <p:cNvPr id="292" name="Rectangle 33"/>
                <p:cNvSpPr/>
                <p:nvPr/>
              </p:nvSpPr>
              <p:spPr>
                <a:xfrm>
                  <a:off x="6804000" y="4164840"/>
                  <a:ext cx="468000" cy="402120"/>
                </a:xfrm>
                <a:prstGeom prst="rect">
                  <a:avLst/>
                </a:prstGeom>
                <a:solidFill>
                  <a:srgbClr val="9cb3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Rectangle 34"/>
                <p:cNvSpPr/>
                <p:nvPr/>
              </p:nvSpPr>
              <p:spPr>
                <a:xfrm>
                  <a:off x="7272000" y="4164840"/>
                  <a:ext cx="468360" cy="402120"/>
                </a:xfrm>
                <a:prstGeom prst="rect">
                  <a:avLst/>
                </a:prstGeom>
                <a:solidFill>
                  <a:srgbClr val="9cb3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4" name="Group 35"/>
            <p:cNvGrpSpPr/>
            <p:nvPr/>
          </p:nvGrpSpPr>
          <p:grpSpPr>
            <a:xfrm>
              <a:off x="6908400" y="2624760"/>
              <a:ext cx="729000" cy="1896120"/>
              <a:chOff x="6908400" y="2624760"/>
              <a:chExt cx="729000" cy="1896120"/>
            </a:xfrm>
          </p:grpSpPr>
          <p:sp>
            <p:nvSpPr>
              <p:cNvPr id="295" name="Oval 36"/>
              <p:cNvSpPr/>
              <p:nvPr/>
            </p:nvSpPr>
            <p:spPr>
              <a:xfrm>
                <a:off x="6908400" y="4233240"/>
                <a:ext cx="260640" cy="287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Oval 37"/>
              <p:cNvSpPr/>
              <p:nvPr/>
            </p:nvSpPr>
            <p:spPr>
              <a:xfrm>
                <a:off x="6908400" y="3831120"/>
                <a:ext cx="260640" cy="287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Oval 38"/>
              <p:cNvSpPr/>
              <p:nvPr/>
            </p:nvSpPr>
            <p:spPr>
              <a:xfrm>
                <a:off x="6908400" y="3429000"/>
                <a:ext cx="260640" cy="287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Oval 39"/>
              <p:cNvSpPr/>
              <p:nvPr/>
            </p:nvSpPr>
            <p:spPr>
              <a:xfrm>
                <a:off x="6908400" y="3026880"/>
                <a:ext cx="260640" cy="287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Oval 40"/>
              <p:cNvSpPr/>
              <p:nvPr/>
            </p:nvSpPr>
            <p:spPr>
              <a:xfrm>
                <a:off x="6908400" y="2624760"/>
                <a:ext cx="260640" cy="287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Oval 41"/>
              <p:cNvSpPr/>
              <p:nvPr/>
            </p:nvSpPr>
            <p:spPr>
              <a:xfrm>
                <a:off x="7376760" y="4233240"/>
                <a:ext cx="260640" cy="287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Oval 42"/>
              <p:cNvSpPr/>
              <p:nvPr/>
            </p:nvSpPr>
            <p:spPr>
              <a:xfrm>
                <a:off x="7366320" y="3831120"/>
                <a:ext cx="260640" cy="287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2" name="Text Box 43"/>
          <p:cNvSpPr/>
          <p:nvPr/>
        </p:nvSpPr>
        <p:spPr>
          <a:xfrm>
            <a:off x="2843280" y="515772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Quinary Sti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44"/>
          <p:cNvSpPr/>
          <p:nvPr/>
        </p:nvSpPr>
        <p:spPr>
          <a:xfrm>
            <a:off x="6588000" y="213372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en fra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Tempus Sans ITC"/>
              </a:rPr>
              <a:t>The Reality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To become a Part-Whole thinker children n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Times New Roman"/>
              </a:rPr>
              <a:t>automatic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 recall of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Facts to Ten (+ and -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Doubles and Halves Fa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Ten and ….10 + 6 = 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To Become a Multiplicative thinker children n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to be able to recall the x 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5280" y="981000"/>
            <a:ext cx="7086600" cy="87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empus Sans ITC"/>
              </a:rPr>
              <a:t>How Does It Work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arly/Advanced Numeracy Projects (ENP/ANP) encourage teachers to analyse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ntal strateg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students use to solve number problem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s opposed to simply checking that students have the correct solu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eaching is then targeted to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pecific learning nee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each student. This programme reflects the principles behind the mathematics curriculum statemen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692280"/>
            <a:ext cx="7918560" cy="540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ildren are assessed and grouped according to the knowledge they have and the strategies they us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Knowled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Number Identification, Number Sequence and Order, Grouping and Place Value, Basic Fa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rateg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Addition and Subtraction, Multiplication and Division,  Fraction and Propor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Stages of Develop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er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to One Coun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ing from One on Mate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ing from One by Ima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anced Coun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ly Additive Part Wh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anced Additive Part Wh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anced Multiplicative Part Wh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anced Proportional Part Wh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At all stages, students should: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derstand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numbers, the ways they are represented, and the quantities for which they sta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curac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fficienc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fid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calculating – mentally, on paper, and with a calculat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 the ability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stim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to make approximations, and to be alert to the reasonableness of results and measu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thematics in the New Zealand Curriculu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Times New Roman"/>
              </a:rPr>
              <a:t>Emergen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2700360" y="5300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ffee"/>
                </a:solidFill>
                <a:latin typeface="Arial"/>
              </a:rPr>
              <a:t>Movie Cli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Group 4"/>
          <p:cNvGrpSpPr/>
          <p:nvPr/>
        </p:nvGrpSpPr>
        <p:grpSpPr>
          <a:xfrm>
            <a:off x="539640" y="1484280"/>
            <a:ext cx="7991640" cy="4311720"/>
            <a:chOff x="539640" y="1484280"/>
            <a:chExt cx="7991640" cy="4311720"/>
          </a:xfrm>
        </p:grpSpPr>
        <p:sp>
          <p:nvSpPr>
            <p:cNvPr id="106" name="AutoShape 5"/>
            <p:cNvSpPr/>
            <p:nvPr/>
          </p:nvSpPr>
          <p:spPr>
            <a:xfrm>
              <a:off x="4932360" y="1557360"/>
              <a:ext cx="3384720" cy="2663640"/>
            </a:xfrm>
            <a:prstGeom prst="wedgeEllipseCallout">
              <a:avLst>
                <a:gd name="adj1" fmla="val -73731"/>
                <a:gd name="adj2" fmla="val 33550"/>
              </a:avLst>
            </a:prstGeom>
            <a:solidFill>
              <a:srgbClr val="9cb3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4800" spc="-1" strike="noStrike">
                  <a:solidFill>
                    <a:srgbClr val="000000"/>
                  </a:solidFill>
                  <a:latin typeface="Arial"/>
                </a:rPr>
                <a:t>1,2,3,5,8...?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7" name="Picture 6" descr=""/>
            <p:cNvPicPr/>
            <p:nvPr/>
          </p:nvPicPr>
          <p:blipFill>
            <a:blip r:embed="rId1"/>
            <a:stretch/>
          </p:blipFill>
          <p:spPr>
            <a:xfrm>
              <a:off x="1187280" y="2565360"/>
              <a:ext cx="2637000" cy="323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7"/>
            <p:cNvSpPr/>
            <p:nvPr/>
          </p:nvSpPr>
          <p:spPr>
            <a:xfrm>
              <a:off x="539640" y="1484280"/>
              <a:ext cx="388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NZ" sz="2400" spc="-1" strike="noStrike">
                  <a:solidFill>
                    <a:srgbClr val="000000"/>
                  </a:solidFill>
                  <a:latin typeface="Arial"/>
                </a:rPr>
                <a:t>Can you get me 7 counters from the pile please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Text Box 8"/>
            <p:cNvSpPr/>
            <p:nvPr/>
          </p:nvSpPr>
          <p:spPr>
            <a:xfrm>
              <a:off x="4643280" y="4508640"/>
              <a:ext cx="3888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Arial"/>
                </a:rPr>
                <a:t>The child can not consistently count a collection of object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Times New Roman"/>
              </a:rPr>
              <a:t>One to One 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Group 1027"/>
          <p:cNvGrpSpPr/>
          <p:nvPr/>
        </p:nvGrpSpPr>
        <p:grpSpPr>
          <a:xfrm>
            <a:off x="539640" y="1484280"/>
            <a:ext cx="7991640" cy="4581360"/>
            <a:chOff x="539640" y="1484280"/>
            <a:chExt cx="7991640" cy="4581360"/>
          </a:xfrm>
        </p:grpSpPr>
        <p:sp>
          <p:nvSpPr>
            <p:cNvPr id="112" name="AutoShape 1028"/>
            <p:cNvSpPr/>
            <p:nvPr/>
          </p:nvSpPr>
          <p:spPr>
            <a:xfrm>
              <a:off x="4932360" y="1557360"/>
              <a:ext cx="3384720" cy="2663640"/>
            </a:xfrm>
            <a:prstGeom prst="wedgeEllipseCallout">
              <a:avLst>
                <a:gd name="adj1" fmla="val -73731"/>
                <a:gd name="adj2" fmla="val 33550"/>
              </a:avLst>
            </a:prstGeom>
            <a:solidFill>
              <a:srgbClr val="9cb3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4800" spc="-1" strike="noStrike">
                  <a:solidFill>
                    <a:srgbClr val="000000"/>
                  </a:solidFill>
                  <a:latin typeface="Arial"/>
                </a:rPr>
                <a:t>1,2,3,4,5,6,7,8.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3" name="Picture 1029" descr=""/>
            <p:cNvPicPr/>
            <p:nvPr/>
          </p:nvPicPr>
          <p:blipFill>
            <a:blip r:embed="rId1"/>
            <a:stretch/>
          </p:blipFill>
          <p:spPr>
            <a:xfrm>
              <a:off x="1187280" y="2565360"/>
              <a:ext cx="2637000" cy="323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1030"/>
            <p:cNvSpPr/>
            <p:nvPr/>
          </p:nvSpPr>
          <p:spPr>
            <a:xfrm>
              <a:off x="539640" y="1484280"/>
              <a:ext cx="388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NZ" sz="2400" spc="-1" strike="noStrike">
                  <a:solidFill>
                    <a:srgbClr val="000000"/>
                  </a:solidFill>
                  <a:latin typeface="Arial"/>
                </a:rPr>
                <a:t>Can you get me 7 counters from the pile please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 Box 1031"/>
            <p:cNvSpPr/>
            <p:nvPr/>
          </p:nvSpPr>
          <p:spPr>
            <a:xfrm>
              <a:off x="4643280" y="4508640"/>
              <a:ext cx="3888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Arial"/>
                </a:rPr>
                <a:t>The child can count a set of objects up to ten but can’t join and separate sets like 4 + 3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23:45:53Z</dcterms:created>
  <dc:creator>Ministry of Education</dc:creator>
  <dc:description/>
  <dc:language>en-US</dc:language>
  <cp:lastModifiedBy>Chris Dickinson</cp:lastModifiedBy>
  <cp:lastPrinted>2009-04-22T19:24:48Z</cp:lastPrinted>
  <dcterms:modified xsi:type="dcterms:W3CDTF">2014-04-07T07:38:07Z</dcterms:modified>
  <cp:revision>1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501033</vt:lpwstr>
  </property>
</Properties>
</file>